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6E9-B963-4C6E-B6AB-69C2B373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0CB-5539-4F99-AA88-97663650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62F-F14B-4C6C-94C7-268EA36F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B86-4CC2-44E2-9144-CE560A1C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46CD-316D-4F97-A33B-80B4B817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BF1-C545-4199-962B-EF6618D3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625-0D83-4F39-9356-5374A533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78E-5D2B-4D24-BCC9-F3B24781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968-ED9F-447C-8E04-275882E9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635-5A91-4E90-BB83-9AAEAE1C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A12-943B-4533-B1D5-9F6D4919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FDE-4212-437C-AE5B-2AEF5D8B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6B2A-5C1D-4006-92E8-89B1C2A59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: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Identify and describe the parts of a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set of all points in a plane that are the same distance from a point called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adi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r) is the distance from the center to any point on the cir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Diame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d) is the distance across the circle through its center. (diameter is twice the rad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800600"/>
            <a:ext cx="1904760" cy="1676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5638680"/>
            <a:ext cx="75960" cy="76320"/>
          </a:xfrm>
          <a:prstGeom prst="ellipse">
            <a:avLst/>
          </a:prstGeom>
          <a:solidFill>
            <a:srgbClr val="bbe0e3">
              <a:alpha val="31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267080" y="5181480"/>
            <a:ext cx="762120" cy="457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800600"/>
            <a:ext cx="75960" cy="16765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54360" y="5224320"/>
            <a:ext cx="9720" cy="125640"/>
          </a:xfrm>
          <a:custGeom>
            <a:avLst/>
            <a:gdLst/>
            <a:ahLst/>
            <a:rect l="l" t="t" r="r" b="b"/>
            <a:pathLst>
              <a:path w="26" h="348">
                <a:moveTo>
                  <a:pt x="12650" y="14660"/>
                </a:moveTo>
                <a:cubicBezTo>
                  <a:pt x="12657" y="14727"/>
                  <a:pt x="12668" y="14791"/>
                  <a:pt x="12675" y="14858"/>
                </a:cubicBezTo>
              </a:path>
              <a:path w="26" h="348">
                <a:moveTo>
                  <a:pt x="12650" y="14536"/>
                </a:moveTo>
                <a:cubicBezTo>
                  <a:pt x="12650" y="14528"/>
                  <a:pt x="12650" y="14519"/>
                  <a:pt x="12650" y="14511"/>
                </a:cubicBezTo>
              </a:path>
              <a:path w="26" h="348">
                <a:moveTo>
                  <a:pt x="12650" y="14511"/>
                </a:moveTo>
                <a:lnTo>
                  <a:pt x="12650" y="14511"/>
                </a:ln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95880" y="5224320"/>
            <a:ext cx="258480" cy="268560"/>
          </a:xfrm>
          <a:custGeom>
            <a:avLst/>
            <a:gdLst/>
            <a:ahLst/>
            <a:rect l="l" t="t" r="r" b="b"/>
            <a:pathLst>
              <a:path w="720" h="745">
                <a:moveTo>
                  <a:pt x="11956" y="15131"/>
                </a:moveTo>
                <a:cubicBezTo>
                  <a:pt x="11965" y="15176"/>
                  <a:pt x="11984" y="15212"/>
                  <a:pt x="12005" y="15255"/>
                </a:cubicBezTo>
                <a:cubicBezTo>
                  <a:pt x="11986" y="15187"/>
                  <a:pt x="11894" y="15076"/>
                  <a:pt x="11956" y="15007"/>
                </a:cubicBezTo>
                <a:cubicBezTo>
                  <a:pt x="11984" y="14975"/>
                  <a:pt x="12041" y="14942"/>
                  <a:pt x="12080" y="14932"/>
                </a:cubicBezTo>
              </a:path>
              <a:path w="720" h="745">
                <a:moveTo>
                  <a:pt x="12378" y="14932"/>
                </a:moveTo>
                <a:cubicBezTo>
                  <a:pt x="12296" y="14873"/>
                  <a:pt x="12240" y="14901"/>
                  <a:pt x="12204" y="15007"/>
                </a:cubicBezTo>
                <a:cubicBezTo>
                  <a:pt x="12204" y="15068"/>
                  <a:pt x="12195" y="15084"/>
                  <a:pt x="12229" y="15106"/>
                </a:cubicBezTo>
                <a:cubicBezTo>
                  <a:pt x="12345" y="15059"/>
                  <a:pt x="12328" y="15028"/>
                  <a:pt x="12328" y="14883"/>
                </a:cubicBezTo>
                <a:cubicBezTo>
                  <a:pt x="12328" y="14833"/>
                  <a:pt x="12376" y="14964"/>
                  <a:pt x="12402" y="15007"/>
                </a:cubicBezTo>
              </a:path>
              <a:path w="720" h="745">
                <a:moveTo>
                  <a:pt x="12576" y="14759"/>
                </a:moveTo>
                <a:cubicBezTo>
                  <a:pt x="12528" y="14735"/>
                  <a:pt x="12514" y="14727"/>
                  <a:pt x="12477" y="14734"/>
                </a:cubicBezTo>
                <a:cubicBezTo>
                  <a:pt x="12451" y="14838"/>
                  <a:pt x="12443" y="14906"/>
                  <a:pt x="12477" y="15007"/>
                </a:cubicBezTo>
                <a:cubicBezTo>
                  <a:pt x="12568" y="15007"/>
                  <a:pt x="12603" y="14994"/>
                  <a:pt x="12626" y="14908"/>
                </a:cubicBezTo>
              </a:path>
              <a:path w="720" h="745">
                <a:moveTo>
                  <a:pt x="12502" y="14511"/>
                </a:moveTo>
                <a:cubicBezTo>
                  <a:pt x="12520" y="14640"/>
                  <a:pt x="12552" y="14762"/>
                  <a:pt x="12601" y="14883"/>
                </a:cubicBezTo>
                <a:cubicBezTo>
                  <a:pt x="12621" y="14923"/>
                  <a:pt x="12619" y="14939"/>
                  <a:pt x="12650" y="14932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16280" y="5170320"/>
            <a:ext cx="169920" cy="14292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12824" y="14486"/>
                </a:moveTo>
                <a:cubicBezTo>
                  <a:pt x="12834" y="14575"/>
                  <a:pt x="12872" y="14654"/>
                  <a:pt x="12898" y="14734"/>
                </a:cubicBezTo>
                <a:cubicBezTo>
                  <a:pt x="12898" y="14742"/>
                  <a:pt x="12898" y="14751"/>
                  <a:pt x="12898" y="14759"/>
                </a:cubicBezTo>
                <a:cubicBezTo>
                  <a:pt x="12944" y="14687"/>
                  <a:pt x="12973" y="14531"/>
                  <a:pt x="12973" y="14536"/>
                </a:cubicBezTo>
                <a:cubicBezTo>
                  <a:pt x="12929" y="14687"/>
                  <a:pt x="12995" y="14693"/>
                  <a:pt x="13122" y="14684"/>
                </a:cubicBezTo>
              </a:path>
              <a:path w="472" h="398">
                <a:moveTo>
                  <a:pt x="13122" y="14362"/>
                </a:moveTo>
                <a:cubicBezTo>
                  <a:pt x="13077" y="14407"/>
                  <a:pt x="13060" y="14416"/>
                  <a:pt x="13072" y="14461"/>
                </a:cubicBezTo>
                <a:cubicBezTo>
                  <a:pt x="13124" y="14501"/>
                  <a:pt x="13263" y="14439"/>
                  <a:pt x="13295" y="14536"/>
                </a:cubicBezTo>
                <a:cubicBezTo>
                  <a:pt x="13330" y="14641"/>
                  <a:pt x="13211" y="14685"/>
                  <a:pt x="13146" y="14734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4653000"/>
            <a:ext cx="438120" cy="320760"/>
          </a:xfrm>
          <a:custGeom>
            <a:avLst/>
            <a:gdLst/>
            <a:ahLst/>
            <a:rect l="l" t="t" r="r" b="b"/>
            <a:pathLst>
              <a:path w="1217" h="894">
                <a:moveTo>
                  <a:pt x="9103" y="13618"/>
                </a:moveTo>
                <a:cubicBezTo>
                  <a:pt x="9164" y="13679"/>
                  <a:pt x="9241" y="13744"/>
                  <a:pt x="9277" y="13816"/>
                </a:cubicBezTo>
                <a:cubicBezTo>
                  <a:pt x="9291" y="13720"/>
                  <a:pt x="9227" y="13599"/>
                  <a:pt x="9252" y="13469"/>
                </a:cubicBezTo>
                <a:cubicBezTo>
                  <a:pt x="9279" y="13363"/>
                  <a:pt x="9291" y="13324"/>
                  <a:pt x="9351" y="13271"/>
                </a:cubicBezTo>
              </a:path>
              <a:path w="1217" h="894">
                <a:moveTo>
                  <a:pt x="9475" y="13246"/>
                </a:moveTo>
                <a:cubicBezTo>
                  <a:pt x="9503" y="13246"/>
                  <a:pt x="9509" y="13244"/>
                  <a:pt x="9475" y="13221"/>
                </a:cubicBezTo>
                <a:cubicBezTo>
                  <a:pt x="9410" y="13287"/>
                  <a:pt x="9384" y="13502"/>
                  <a:pt x="9475" y="13593"/>
                </a:cubicBezTo>
                <a:cubicBezTo>
                  <a:pt x="9619" y="13737"/>
                  <a:pt x="9695" y="13454"/>
                  <a:pt x="9723" y="13395"/>
                </a:cubicBezTo>
              </a:path>
              <a:path w="1217" h="894">
                <a:moveTo>
                  <a:pt x="9550" y="12923"/>
                </a:moveTo>
                <a:cubicBezTo>
                  <a:pt x="9642" y="13108"/>
                  <a:pt x="9758" y="13283"/>
                  <a:pt x="9847" y="13469"/>
                </a:cubicBezTo>
                <a:cubicBezTo>
                  <a:pt x="9847" y="13497"/>
                  <a:pt x="9849" y="13503"/>
                  <a:pt x="9872" y="13469"/>
                </a:cubicBezTo>
              </a:path>
              <a:path w="1217" h="894">
                <a:moveTo>
                  <a:pt x="9922" y="13122"/>
                </a:moveTo>
                <a:cubicBezTo>
                  <a:pt x="9966" y="13085"/>
                  <a:pt x="10033" y="13060"/>
                  <a:pt x="10046" y="13022"/>
                </a:cubicBezTo>
                <a:cubicBezTo>
                  <a:pt x="9964" y="12959"/>
                  <a:pt x="9814" y="12888"/>
                  <a:pt x="9823" y="13097"/>
                </a:cubicBezTo>
                <a:cubicBezTo>
                  <a:pt x="9835" y="13383"/>
                  <a:pt x="10065" y="13370"/>
                  <a:pt x="10244" y="13246"/>
                </a:cubicBezTo>
                <a:cubicBezTo>
                  <a:pt x="10269" y="13221"/>
                  <a:pt x="10294" y="13196"/>
                  <a:pt x="10319" y="131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97160" y="4911840"/>
            <a:ext cx="2197080" cy="1125360"/>
          </a:xfrm>
          <a:custGeom>
            <a:avLst/>
            <a:gdLst/>
            <a:ahLst/>
            <a:rect l="l" t="t" r="r" b="b"/>
            <a:pathLst>
              <a:path w="6103" h="3126">
                <a:moveTo>
                  <a:pt x="11782" y="15925"/>
                </a:moveTo>
                <a:cubicBezTo>
                  <a:pt x="11782" y="15917"/>
                  <a:pt x="11782" y="15908"/>
                  <a:pt x="11782" y="15900"/>
                </a:cubicBezTo>
              </a:path>
              <a:path w="6103" h="3126">
                <a:moveTo>
                  <a:pt x="8880" y="13643"/>
                </a:moveTo>
                <a:lnTo>
                  <a:pt x="8880" y="13643"/>
                </a:lnTo>
                <a:lnTo>
                  <a:pt x="8880" y="13643"/>
                </a:lnTo>
              </a:path>
              <a:path w="6103" h="3126">
                <a:moveTo>
                  <a:pt x="8880" y="13643"/>
                </a:moveTo>
                <a:lnTo>
                  <a:pt x="8880" y="13643"/>
                </a:lnTo>
              </a:path>
              <a:path w="6103" h="3126">
                <a:moveTo>
                  <a:pt x="14883" y="16446"/>
                </a:moveTo>
                <a:cubicBezTo>
                  <a:pt x="14902" y="16543"/>
                  <a:pt x="14925" y="16744"/>
                  <a:pt x="14982" y="16743"/>
                </a:cubicBezTo>
              </a:path>
              <a:path w="6103" h="3126">
                <a:moveTo>
                  <a:pt x="14883" y="16247"/>
                </a:moveTo>
                <a:lnTo>
                  <a:pt x="14883" y="16247"/>
                </a:lnTo>
                <a:lnTo>
                  <a:pt x="14883" y="16247"/>
                </a:lnTo>
              </a:path>
              <a:path w="6103" h="3126">
                <a:moveTo>
                  <a:pt x="14883" y="16247"/>
                </a:moveTo>
                <a:lnTo>
                  <a:pt x="14883" y="16247"/>
                </a:lnTo>
              </a:path>
            </a:pathLst>
          </a:custGeom>
          <a:noFill/>
          <a:ln cap="rnd" w="3492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90800" y="4241880"/>
            <a:ext cx="152280" cy="36360"/>
          </a:xfrm>
          <a:custGeom>
            <a:avLst/>
            <a:gdLst/>
            <a:ahLst/>
            <a:rect l="l" t="t" r="r" b="b"/>
            <a:pathLst>
              <a:path w="423" h="100">
                <a:moveTo>
                  <a:pt x="5655" y="11807"/>
                </a:moveTo>
                <a:cubicBezTo>
                  <a:pt x="5647" y="11807"/>
                  <a:pt x="5639" y="11807"/>
                  <a:pt x="5631" y="11807"/>
                </a:cubicBezTo>
                <a:cubicBezTo>
                  <a:pt x="5541" y="11807"/>
                  <a:pt x="5622" y="11835"/>
                  <a:pt x="5655" y="11832"/>
                </a:cubicBezTo>
                <a:cubicBezTo>
                  <a:pt x="5678" y="11830"/>
                  <a:pt x="5853" y="11790"/>
                  <a:pt x="5730" y="11832"/>
                </a:cubicBezTo>
                <a:cubicBezTo>
                  <a:pt x="5692" y="11845"/>
                  <a:pt x="5494" y="11882"/>
                  <a:pt x="5655" y="11857"/>
                </a:cubicBezTo>
                <a:cubicBezTo>
                  <a:pt x="5738" y="11844"/>
                  <a:pt x="5937" y="11811"/>
                  <a:pt x="5730" y="11857"/>
                </a:cubicBezTo>
                <a:cubicBezTo>
                  <a:pt x="5614" y="11876"/>
                  <a:pt x="5598" y="11884"/>
                  <a:pt x="5531" y="11881"/>
                </a:cubicBezTo>
                <a:cubicBezTo>
                  <a:pt x="5650" y="11881"/>
                  <a:pt x="5768" y="11850"/>
                  <a:pt x="5879" y="11807"/>
                </a:cubicBezTo>
                <a:cubicBezTo>
                  <a:pt x="5943" y="11782"/>
                  <a:pt x="5666" y="11883"/>
                  <a:pt x="5730" y="11857"/>
                </a:cubicBezTo>
                <a:cubicBezTo>
                  <a:pt x="5806" y="11826"/>
                  <a:pt x="5874" y="11797"/>
                  <a:pt x="5953" y="11782"/>
                </a:cubicBezTo>
                <a:cubicBezTo>
                  <a:pt x="5896" y="11793"/>
                  <a:pt x="5716" y="11864"/>
                  <a:pt x="5755" y="11857"/>
                </a:cubicBezTo>
                <a:cubicBezTo>
                  <a:pt x="5854" y="11832"/>
                  <a:pt x="5887" y="11824"/>
                  <a:pt x="5953" y="11807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5880" y="4867200"/>
            <a:ext cx="2197080" cy="1571760"/>
          </a:xfrm>
          <a:custGeom>
            <a:avLst/>
            <a:gdLst/>
            <a:ahLst/>
            <a:rect l="l" t="t" r="r" b="b"/>
            <a:pathLst>
              <a:path w="6103" h="4366">
                <a:moveTo>
                  <a:pt x="11757" y="15850"/>
                </a:moveTo>
                <a:cubicBezTo>
                  <a:pt x="11752" y="15835"/>
                  <a:pt x="11724" y="15768"/>
                  <a:pt x="11683" y="15801"/>
                </a:cubicBezTo>
                <a:cubicBezTo>
                  <a:pt x="11584" y="15881"/>
                  <a:pt x="11734" y="15902"/>
                  <a:pt x="11807" y="15825"/>
                </a:cubicBezTo>
                <a:cubicBezTo>
                  <a:pt x="11840" y="15790"/>
                  <a:pt x="11841" y="15647"/>
                  <a:pt x="11757" y="15677"/>
                </a:cubicBezTo>
                <a:cubicBezTo>
                  <a:pt x="11741" y="15693"/>
                  <a:pt x="11724" y="15710"/>
                  <a:pt x="11708" y="15726"/>
                </a:cubicBezTo>
                <a:cubicBezTo>
                  <a:pt x="11672" y="15774"/>
                  <a:pt x="11614" y="15859"/>
                  <a:pt x="11733" y="15825"/>
                </a:cubicBezTo>
                <a:cubicBezTo>
                  <a:pt x="11846" y="15793"/>
                  <a:pt x="11813" y="15700"/>
                  <a:pt x="11733" y="15677"/>
                </a:cubicBezTo>
                <a:cubicBezTo>
                  <a:pt x="11704" y="15699"/>
                  <a:pt x="11554" y="15833"/>
                  <a:pt x="11683" y="15801"/>
                </a:cubicBezTo>
                <a:cubicBezTo>
                  <a:pt x="11757" y="15783"/>
                  <a:pt x="11750" y="15737"/>
                  <a:pt x="11757" y="15677"/>
                </a:cubicBezTo>
                <a:cubicBezTo>
                  <a:pt x="11687" y="15659"/>
                  <a:pt x="11573" y="15686"/>
                  <a:pt x="11609" y="15801"/>
                </a:cubicBezTo>
                <a:cubicBezTo>
                  <a:pt x="11621" y="15840"/>
                  <a:pt x="11798" y="15734"/>
                  <a:pt x="11733" y="15677"/>
                </a:cubicBezTo>
                <a:cubicBezTo>
                  <a:pt x="11628" y="15585"/>
                  <a:pt x="11623" y="15783"/>
                  <a:pt x="11633" y="15825"/>
                </a:cubicBezTo>
                <a:cubicBezTo>
                  <a:pt x="11684" y="15812"/>
                  <a:pt x="11819" y="15750"/>
                  <a:pt x="11733" y="15677"/>
                </a:cubicBezTo>
                <a:cubicBezTo>
                  <a:pt x="11680" y="15632"/>
                  <a:pt x="11713" y="15739"/>
                  <a:pt x="11782" y="15751"/>
                </a:cubicBezTo>
              </a:path>
              <a:path w="6103" h="4366">
                <a:moveTo>
                  <a:pt x="12179" y="15949"/>
                </a:moveTo>
                <a:cubicBezTo>
                  <a:pt x="12179" y="15925"/>
                  <a:pt x="12179" y="15916"/>
                  <a:pt x="12179" y="15900"/>
                </a:cubicBezTo>
                <a:cubicBezTo>
                  <a:pt x="12067" y="15900"/>
                  <a:pt x="12022" y="15938"/>
                  <a:pt x="11981" y="16049"/>
                </a:cubicBezTo>
                <a:cubicBezTo>
                  <a:pt x="11913" y="16231"/>
                  <a:pt x="12171" y="16157"/>
                  <a:pt x="12229" y="16123"/>
                </a:cubicBezTo>
                <a:cubicBezTo>
                  <a:pt x="12267" y="16084"/>
                  <a:pt x="12269" y="16067"/>
                  <a:pt x="12303" y="16073"/>
                </a:cubicBezTo>
              </a:path>
              <a:path w="6103" h="4366">
                <a:moveTo>
                  <a:pt x="12551" y="16024"/>
                </a:moveTo>
                <a:cubicBezTo>
                  <a:pt x="12596" y="15999"/>
                  <a:pt x="12639" y="15985"/>
                  <a:pt x="12650" y="15949"/>
                </a:cubicBezTo>
                <a:cubicBezTo>
                  <a:pt x="12613" y="15912"/>
                  <a:pt x="12580" y="15868"/>
                  <a:pt x="12526" y="15925"/>
                </a:cubicBezTo>
                <a:cubicBezTo>
                  <a:pt x="12417" y="16040"/>
                  <a:pt x="12526" y="16134"/>
                  <a:pt x="12650" y="16123"/>
                </a:cubicBezTo>
                <a:cubicBezTo>
                  <a:pt x="12745" y="16099"/>
                  <a:pt x="12775" y="16093"/>
                  <a:pt x="12824" y="16049"/>
                </a:cubicBezTo>
              </a:path>
              <a:path w="6103" h="4366">
                <a:moveTo>
                  <a:pt x="12824" y="15925"/>
                </a:moveTo>
                <a:cubicBezTo>
                  <a:pt x="12822" y="15932"/>
                  <a:pt x="12799" y="16087"/>
                  <a:pt x="12799" y="16024"/>
                </a:cubicBezTo>
                <a:cubicBezTo>
                  <a:pt x="12799" y="15972"/>
                  <a:pt x="12778" y="15771"/>
                  <a:pt x="12898" y="15825"/>
                </a:cubicBezTo>
                <a:cubicBezTo>
                  <a:pt x="12993" y="15868"/>
                  <a:pt x="13039" y="16005"/>
                  <a:pt x="13047" y="16098"/>
                </a:cubicBezTo>
                <a:cubicBezTo>
                  <a:pt x="13047" y="16106"/>
                  <a:pt x="13047" y="16115"/>
                  <a:pt x="13047" y="16123"/>
                </a:cubicBezTo>
              </a:path>
              <a:path w="6103" h="4366">
                <a:moveTo>
                  <a:pt x="13072" y="15553"/>
                </a:moveTo>
                <a:cubicBezTo>
                  <a:pt x="13095" y="15689"/>
                  <a:pt x="13112" y="15813"/>
                  <a:pt x="13146" y="15949"/>
                </a:cubicBezTo>
                <a:cubicBezTo>
                  <a:pt x="13167" y="16033"/>
                  <a:pt x="13168" y="16053"/>
                  <a:pt x="13196" y="16098"/>
                </a:cubicBezTo>
              </a:path>
              <a:path w="6103" h="4366">
                <a:moveTo>
                  <a:pt x="13022" y="15875"/>
                </a:moveTo>
                <a:cubicBezTo>
                  <a:pt x="13128" y="15854"/>
                  <a:pt x="13232" y="15850"/>
                  <a:pt x="13345" y="15850"/>
                </a:cubicBezTo>
                <a:cubicBezTo>
                  <a:pt x="13362" y="15850"/>
                  <a:pt x="13378" y="15850"/>
                  <a:pt x="13395" y="15850"/>
                </a:cubicBezTo>
              </a:path>
              <a:path w="6103" h="4366">
                <a:moveTo>
                  <a:pt x="13494" y="15875"/>
                </a:moveTo>
                <a:cubicBezTo>
                  <a:pt x="13543" y="15838"/>
                  <a:pt x="13557" y="15837"/>
                  <a:pt x="13593" y="15776"/>
                </a:cubicBezTo>
                <a:cubicBezTo>
                  <a:pt x="13509" y="15734"/>
                  <a:pt x="13441" y="15692"/>
                  <a:pt x="13419" y="15825"/>
                </a:cubicBezTo>
                <a:cubicBezTo>
                  <a:pt x="13393" y="15983"/>
                  <a:pt x="13517" y="16087"/>
                  <a:pt x="13667" y="16024"/>
                </a:cubicBezTo>
                <a:cubicBezTo>
                  <a:pt x="13710" y="16006"/>
                  <a:pt x="13884" y="15784"/>
                  <a:pt x="13891" y="15875"/>
                </a:cubicBezTo>
                <a:cubicBezTo>
                  <a:pt x="13891" y="15892"/>
                  <a:pt x="13891" y="15908"/>
                  <a:pt x="13891" y="15925"/>
                </a:cubicBezTo>
                <a:cubicBezTo>
                  <a:pt x="13891" y="15984"/>
                  <a:pt x="13912" y="15757"/>
                  <a:pt x="13915" y="15751"/>
                </a:cubicBezTo>
                <a:cubicBezTo>
                  <a:pt x="13982" y="15632"/>
                  <a:pt x="14121" y="15627"/>
                  <a:pt x="14238" y="15627"/>
                </a:cubicBezTo>
              </a:path>
              <a:path w="6103" h="4366">
                <a:moveTo>
                  <a:pt x="8830" y="14015"/>
                </a:moveTo>
                <a:cubicBezTo>
                  <a:pt x="8838" y="14015"/>
                  <a:pt x="8847" y="14015"/>
                  <a:pt x="8855" y="14015"/>
                </a:cubicBezTo>
                <a:cubicBezTo>
                  <a:pt x="8841" y="13943"/>
                  <a:pt x="8729" y="13798"/>
                  <a:pt x="8682" y="13965"/>
                </a:cubicBezTo>
                <a:cubicBezTo>
                  <a:pt x="8637" y="14124"/>
                  <a:pt x="8721" y="14523"/>
                  <a:pt x="8954" y="14362"/>
                </a:cubicBezTo>
                <a:cubicBezTo>
                  <a:pt x="9053" y="14239"/>
                  <a:pt x="9087" y="14198"/>
                  <a:pt x="9103" y="14089"/>
                </a:cubicBezTo>
              </a:path>
              <a:path w="6103" h="4366">
                <a:moveTo>
                  <a:pt x="8979" y="13667"/>
                </a:moveTo>
                <a:cubicBezTo>
                  <a:pt x="9017" y="13793"/>
                  <a:pt x="9089" y="13897"/>
                  <a:pt x="9128" y="14015"/>
                </a:cubicBezTo>
              </a:path>
              <a:path w="6103" h="4366">
                <a:moveTo>
                  <a:pt x="11658" y="15726"/>
                </a:moveTo>
                <a:cubicBezTo>
                  <a:pt x="11650" y="15726"/>
                  <a:pt x="11641" y="15726"/>
                  <a:pt x="11633" y="15726"/>
                </a:cubicBezTo>
                <a:cubicBezTo>
                  <a:pt x="11641" y="15662"/>
                  <a:pt x="11664" y="15694"/>
                  <a:pt x="11609" y="15627"/>
                </a:cubicBezTo>
                <a:cubicBezTo>
                  <a:pt x="11592" y="15606"/>
                  <a:pt x="11533" y="15564"/>
                  <a:pt x="11509" y="15528"/>
                </a:cubicBezTo>
                <a:cubicBezTo>
                  <a:pt x="11489" y="15487"/>
                  <a:pt x="11492" y="15470"/>
                  <a:pt x="11460" y="15478"/>
                </a:cubicBezTo>
                <a:cubicBezTo>
                  <a:pt x="11434" y="15427"/>
                  <a:pt x="11410" y="15362"/>
                  <a:pt x="11385" y="15304"/>
                </a:cubicBezTo>
                <a:cubicBezTo>
                  <a:pt x="11358" y="15241"/>
                  <a:pt x="11322" y="15187"/>
                  <a:pt x="11286" y="15131"/>
                </a:cubicBezTo>
                <a:cubicBezTo>
                  <a:pt x="11260" y="15091"/>
                  <a:pt x="11222" y="15014"/>
                  <a:pt x="11187" y="14982"/>
                </a:cubicBezTo>
                <a:cubicBezTo>
                  <a:pt x="11130" y="14929"/>
                  <a:pt x="11086" y="14901"/>
                  <a:pt x="11038" y="14833"/>
                </a:cubicBezTo>
                <a:cubicBezTo>
                  <a:pt x="10991" y="14767"/>
                  <a:pt x="10934" y="14701"/>
                  <a:pt x="10889" y="14635"/>
                </a:cubicBezTo>
                <a:cubicBezTo>
                  <a:pt x="10846" y="14571"/>
                  <a:pt x="10787" y="14529"/>
                  <a:pt x="10740" y="14461"/>
                </a:cubicBezTo>
                <a:cubicBezTo>
                  <a:pt x="10696" y="14398"/>
                  <a:pt x="10671" y="14346"/>
                  <a:pt x="10616" y="14288"/>
                </a:cubicBezTo>
                <a:cubicBezTo>
                  <a:pt x="10585" y="14256"/>
                  <a:pt x="10544" y="14233"/>
                  <a:pt x="10517" y="14213"/>
                </a:cubicBezTo>
                <a:cubicBezTo>
                  <a:pt x="10500" y="14189"/>
                  <a:pt x="10456" y="14155"/>
                  <a:pt x="10443" y="14139"/>
                </a:cubicBezTo>
                <a:cubicBezTo>
                  <a:pt x="10409" y="14096"/>
                  <a:pt x="10390" y="14051"/>
                  <a:pt x="10344" y="14015"/>
                </a:cubicBezTo>
                <a:cubicBezTo>
                  <a:pt x="10314" y="13992"/>
                  <a:pt x="10301" y="13966"/>
                  <a:pt x="10269" y="13940"/>
                </a:cubicBezTo>
                <a:cubicBezTo>
                  <a:pt x="10232" y="13910"/>
                  <a:pt x="10224" y="13909"/>
                  <a:pt x="10195" y="13891"/>
                </a:cubicBezTo>
                <a:cubicBezTo>
                  <a:pt x="10174" y="13859"/>
                  <a:pt x="10177" y="13862"/>
                  <a:pt x="10145" y="13841"/>
                </a:cubicBezTo>
              </a:path>
              <a:path w="6103" h="4366">
                <a:moveTo>
                  <a:pt x="11559" y="15801"/>
                </a:moveTo>
                <a:cubicBezTo>
                  <a:pt x="11547" y="15791"/>
                  <a:pt x="11517" y="15759"/>
                  <a:pt x="11485" y="15751"/>
                </a:cubicBezTo>
                <a:cubicBezTo>
                  <a:pt x="11419" y="15735"/>
                  <a:pt x="11329" y="15730"/>
                  <a:pt x="11261" y="15726"/>
                </a:cubicBezTo>
                <a:cubicBezTo>
                  <a:pt x="10680" y="15693"/>
                  <a:pt x="10063" y="15779"/>
                  <a:pt x="9500" y="15701"/>
                </a:cubicBezTo>
                <a:cubicBezTo>
                  <a:pt x="9389" y="15686"/>
                  <a:pt x="9265" y="15701"/>
                  <a:pt x="9153" y="15701"/>
                </a:cubicBezTo>
              </a:path>
              <a:path w="6103" h="4366">
                <a:moveTo>
                  <a:pt x="11633" y="15701"/>
                </a:moveTo>
                <a:cubicBezTo>
                  <a:pt x="11606" y="15747"/>
                  <a:pt x="11574" y="15803"/>
                  <a:pt x="11534" y="15850"/>
                </a:cubicBezTo>
                <a:cubicBezTo>
                  <a:pt x="11480" y="15914"/>
                  <a:pt x="11421" y="15972"/>
                  <a:pt x="11361" y="16024"/>
                </a:cubicBezTo>
                <a:cubicBezTo>
                  <a:pt x="11315" y="16065"/>
                  <a:pt x="11252" y="16092"/>
                  <a:pt x="11212" y="16123"/>
                </a:cubicBezTo>
                <a:cubicBezTo>
                  <a:pt x="11129" y="16188"/>
                  <a:pt x="11140" y="16247"/>
                  <a:pt x="11038" y="16297"/>
                </a:cubicBezTo>
                <a:cubicBezTo>
                  <a:pt x="10936" y="16347"/>
                  <a:pt x="10935" y="16382"/>
                  <a:pt x="10864" y="16470"/>
                </a:cubicBezTo>
                <a:cubicBezTo>
                  <a:pt x="10809" y="16538"/>
                  <a:pt x="10739" y="16571"/>
                  <a:pt x="10691" y="16644"/>
                </a:cubicBezTo>
                <a:cubicBezTo>
                  <a:pt x="10656" y="16696"/>
                  <a:pt x="10617" y="16718"/>
                  <a:pt x="10567" y="16768"/>
                </a:cubicBezTo>
                <a:cubicBezTo>
                  <a:pt x="10511" y="16824"/>
                  <a:pt x="10463" y="16900"/>
                  <a:pt x="10418" y="16966"/>
                </a:cubicBezTo>
                <a:cubicBezTo>
                  <a:pt x="10381" y="17020"/>
                  <a:pt x="10340" y="17123"/>
                  <a:pt x="10294" y="17165"/>
                </a:cubicBezTo>
                <a:cubicBezTo>
                  <a:pt x="10251" y="17205"/>
                  <a:pt x="10243" y="17199"/>
                  <a:pt x="10195" y="17239"/>
                </a:cubicBezTo>
                <a:cubicBezTo>
                  <a:pt x="10183" y="17249"/>
                  <a:pt x="10141" y="17287"/>
                  <a:pt x="10120" y="17314"/>
                </a:cubicBezTo>
                <a:cubicBezTo>
                  <a:pt x="10102" y="17338"/>
                  <a:pt x="10105" y="17359"/>
                  <a:pt x="10071" y="17388"/>
                </a:cubicBezTo>
                <a:cubicBezTo>
                  <a:pt x="10037" y="17417"/>
                  <a:pt x="10040" y="17416"/>
                  <a:pt x="10021" y="17438"/>
                </a:cubicBezTo>
                <a:cubicBezTo>
                  <a:pt x="10064" y="17368"/>
                  <a:pt x="10113" y="17296"/>
                  <a:pt x="10170" y="17214"/>
                </a:cubicBezTo>
              </a:path>
              <a:path w="6103" h="4366">
                <a:moveTo>
                  <a:pt x="11658" y="15751"/>
                </a:moveTo>
                <a:cubicBezTo>
                  <a:pt x="11642" y="15811"/>
                  <a:pt x="11644" y="15863"/>
                  <a:pt x="11633" y="15925"/>
                </a:cubicBezTo>
                <a:cubicBezTo>
                  <a:pt x="11616" y="16024"/>
                  <a:pt x="11588" y="16127"/>
                  <a:pt x="11559" y="16222"/>
                </a:cubicBezTo>
                <a:cubicBezTo>
                  <a:pt x="11543" y="16275"/>
                  <a:pt x="11518" y="16342"/>
                  <a:pt x="11509" y="16396"/>
                </a:cubicBezTo>
                <a:cubicBezTo>
                  <a:pt x="11499" y="16454"/>
                  <a:pt x="11498" y="16509"/>
                  <a:pt x="11485" y="16570"/>
                </a:cubicBezTo>
                <a:cubicBezTo>
                  <a:pt x="11472" y="16631"/>
                  <a:pt x="11460" y="16677"/>
                  <a:pt x="11460" y="16743"/>
                </a:cubicBezTo>
                <a:cubicBezTo>
                  <a:pt x="11460" y="16809"/>
                  <a:pt x="11429" y="16898"/>
                  <a:pt x="11410" y="16966"/>
                </a:cubicBezTo>
                <a:cubicBezTo>
                  <a:pt x="11393" y="17026"/>
                  <a:pt x="11367" y="17101"/>
                  <a:pt x="11361" y="17165"/>
                </a:cubicBezTo>
                <a:cubicBezTo>
                  <a:pt x="11352" y="17262"/>
                  <a:pt x="11342" y="17299"/>
                  <a:pt x="11311" y="17388"/>
                </a:cubicBezTo>
                <a:cubicBezTo>
                  <a:pt x="11287" y="17456"/>
                  <a:pt x="11273" y="17542"/>
                  <a:pt x="11261" y="17611"/>
                </a:cubicBezTo>
                <a:cubicBezTo>
                  <a:pt x="11254" y="17652"/>
                  <a:pt x="11243" y="17696"/>
                  <a:pt x="11237" y="17735"/>
                </a:cubicBezTo>
                <a:cubicBezTo>
                  <a:pt x="11232" y="17768"/>
                  <a:pt x="11219" y="17777"/>
                  <a:pt x="11212" y="17810"/>
                </a:cubicBezTo>
                <a:cubicBezTo>
                  <a:pt x="11205" y="17842"/>
                  <a:pt x="11154" y="17885"/>
                  <a:pt x="11187" y="17884"/>
                </a:cubicBezTo>
                <a:cubicBezTo>
                  <a:pt x="11195" y="17876"/>
                  <a:pt x="11204" y="17867"/>
                  <a:pt x="11212" y="17859"/>
                </a:cubicBezTo>
              </a:path>
              <a:path w="6103" h="4366">
                <a:moveTo>
                  <a:pt x="10889" y="13519"/>
                </a:moveTo>
                <a:cubicBezTo>
                  <a:pt x="10897" y="13594"/>
                  <a:pt x="10890" y="13610"/>
                  <a:pt x="10914" y="13692"/>
                </a:cubicBezTo>
                <a:cubicBezTo>
                  <a:pt x="10931" y="13749"/>
                  <a:pt x="10954" y="13808"/>
                  <a:pt x="10988" y="13866"/>
                </a:cubicBezTo>
                <a:cubicBezTo>
                  <a:pt x="11011" y="13905"/>
                  <a:pt x="11044" y="13926"/>
                  <a:pt x="11063" y="13965"/>
                </a:cubicBezTo>
                <a:cubicBezTo>
                  <a:pt x="11090" y="14019"/>
                  <a:pt x="11095" y="14053"/>
                  <a:pt x="11112" y="14114"/>
                </a:cubicBezTo>
                <a:cubicBezTo>
                  <a:pt x="11120" y="14144"/>
                  <a:pt x="11128" y="14178"/>
                  <a:pt x="11137" y="14213"/>
                </a:cubicBezTo>
                <a:cubicBezTo>
                  <a:pt x="11146" y="14248"/>
                  <a:pt x="11152" y="14295"/>
                  <a:pt x="11162" y="14337"/>
                </a:cubicBezTo>
                <a:cubicBezTo>
                  <a:pt x="11179" y="14408"/>
                  <a:pt x="11235" y="14487"/>
                  <a:pt x="11261" y="14560"/>
                </a:cubicBezTo>
                <a:cubicBezTo>
                  <a:pt x="11284" y="14625"/>
                  <a:pt x="11318" y="14692"/>
                  <a:pt x="11336" y="14759"/>
                </a:cubicBezTo>
                <a:cubicBezTo>
                  <a:pt x="11354" y="14826"/>
                  <a:pt x="11363" y="14891"/>
                  <a:pt x="11385" y="14957"/>
                </a:cubicBezTo>
                <a:cubicBezTo>
                  <a:pt x="11410" y="15033"/>
                  <a:pt x="11462" y="15104"/>
                  <a:pt x="11485" y="15180"/>
                </a:cubicBezTo>
                <a:cubicBezTo>
                  <a:pt x="11502" y="15236"/>
                  <a:pt x="11509" y="15277"/>
                  <a:pt x="11534" y="15329"/>
                </a:cubicBezTo>
                <a:cubicBezTo>
                  <a:pt x="11556" y="15376"/>
                  <a:pt x="11596" y="15434"/>
                  <a:pt x="11609" y="15478"/>
                </a:cubicBezTo>
                <a:cubicBezTo>
                  <a:pt x="11609" y="15495"/>
                  <a:pt x="11609" y="15511"/>
                  <a:pt x="11609" y="15528"/>
                </a:cubicBezTo>
                <a:cubicBezTo>
                  <a:pt x="11630" y="15553"/>
                  <a:pt x="11666" y="15586"/>
                  <a:pt x="11683" y="15627"/>
                </a:cubicBezTo>
                <a:cubicBezTo>
                  <a:pt x="11683" y="15635"/>
                  <a:pt x="11683" y="15644"/>
                  <a:pt x="11683" y="15652"/>
                </a:cubicBezTo>
                <a:cubicBezTo>
                  <a:pt x="11684" y="15655"/>
                  <a:pt x="11703" y="15693"/>
                  <a:pt x="11708" y="15726"/>
                </a:cubicBezTo>
                <a:cubicBezTo>
                  <a:pt x="11708" y="15751"/>
                  <a:pt x="11708" y="15759"/>
                  <a:pt x="11708" y="15776"/>
                </a:cubicBezTo>
                <a:cubicBezTo>
                  <a:pt x="11735" y="15783"/>
                  <a:pt x="11737" y="15785"/>
                  <a:pt x="11757" y="15801"/>
                </a:cubicBezTo>
                <a:cubicBezTo>
                  <a:pt x="11813" y="15884"/>
                  <a:pt x="11867" y="15955"/>
                  <a:pt x="11956" y="16024"/>
                </a:cubicBezTo>
                <a:cubicBezTo>
                  <a:pt x="11978" y="16041"/>
                  <a:pt x="12014" y="16061"/>
                  <a:pt x="12030" y="16073"/>
                </a:cubicBezTo>
                <a:cubicBezTo>
                  <a:pt x="12037" y="16100"/>
                  <a:pt x="12039" y="16102"/>
                  <a:pt x="12055" y="16123"/>
                </a:cubicBezTo>
                <a:cubicBezTo>
                  <a:pt x="12082" y="16130"/>
                  <a:pt x="12084" y="16132"/>
                  <a:pt x="12105" y="16148"/>
                </a:cubicBezTo>
                <a:cubicBezTo>
                  <a:pt x="12122" y="16158"/>
                  <a:pt x="12147" y="16182"/>
                  <a:pt x="12179" y="16197"/>
                </a:cubicBezTo>
                <a:cubicBezTo>
                  <a:pt x="12207" y="16225"/>
                  <a:pt x="12221" y="16234"/>
                  <a:pt x="12254" y="16222"/>
                </a:cubicBezTo>
                <a:cubicBezTo>
                  <a:pt x="12265" y="16268"/>
                  <a:pt x="12260" y="16248"/>
                  <a:pt x="12278" y="16272"/>
                </a:cubicBezTo>
                <a:cubicBezTo>
                  <a:pt x="12296" y="16299"/>
                  <a:pt x="12302" y="16307"/>
                  <a:pt x="12328" y="16346"/>
                </a:cubicBezTo>
                <a:cubicBezTo>
                  <a:pt x="12371" y="16411"/>
                  <a:pt x="12413" y="16477"/>
                  <a:pt x="12452" y="16545"/>
                </a:cubicBezTo>
                <a:cubicBezTo>
                  <a:pt x="12469" y="16574"/>
                  <a:pt x="12487" y="16622"/>
                  <a:pt x="12502" y="16644"/>
                </a:cubicBezTo>
                <a:cubicBezTo>
                  <a:pt x="12550" y="16718"/>
                  <a:pt x="12604" y="16788"/>
                  <a:pt x="12650" y="16867"/>
                </a:cubicBezTo>
                <a:cubicBezTo>
                  <a:pt x="12673" y="16890"/>
                  <a:pt x="12681" y="16894"/>
                  <a:pt x="12675" y="16917"/>
                </a:cubicBezTo>
                <a:cubicBezTo>
                  <a:pt x="12701" y="16945"/>
                  <a:pt x="12713" y="16942"/>
                  <a:pt x="12750" y="16991"/>
                </a:cubicBezTo>
                <a:cubicBezTo>
                  <a:pt x="12795" y="17051"/>
                  <a:pt x="12826" y="17134"/>
                  <a:pt x="12874" y="17190"/>
                </a:cubicBezTo>
                <a:cubicBezTo>
                  <a:pt x="12882" y="17190"/>
                  <a:pt x="12890" y="17190"/>
                  <a:pt x="12898" y="17190"/>
                </a:cubicBezTo>
                <a:cubicBezTo>
                  <a:pt x="12917" y="17222"/>
                  <a:pt x="12922" y="17256"/>
                  <a:pt x="12948" y="17289"/>
                </a:cubicBezTo>
                <a:cubicBezTo>
                  <a:pt x="12984" y="17335"/>
                  <a:pt x="13005" y="17343"/>
                  <a:pt x="13047" y="17388"/>
                </a:cubicBezTo>
                <a:cubicBezTo>
                  <a:pt x="13085" y="17429"/>
                  <a:pt x="13105" y="17470"/>
                  <a:pt x="13146" y="17512"/>
                </a:cubicBezTo>
                <a:cubicBezTo>
                  <a:pt x="13180" y="17547"/>
                  <a:pt x="13221" y="17579"/>
                  <a:pt x="13246" y="17611"/>
                </a:cubicBezTo>
                <a:cubicBezTo>
                  <a:pt x="13260" y="17629"/>
                  <a:pt x="13259" y="17647"/>
                  <a:pt x="13271" y="17661"/>
                </a:cubicBezTo>
              </a:path>
              <a:path w="6103" h="4366">
                <a:moveTo>
                  <a:pt x="9252" y="14784"/>
                </a:moveTo>
                <a:cubicBezTo>
                  <a:pt x="9276" y="14794"/>
                  <a:pt x="9331" y="14828"/>
                  <a:pt x="9351" y="14833"/>
                </a:cubicBezTo>
                <a:cubicBezTo>
                  <a:pt x="9376" y="14833"/>
                  <a:pt x="9384" y="14833"/>
                  <a:pt x="9401" y="14833"/>
                </a:cubicBezTo>
                <a:cubicBezTo>
                  <a:pt x="9415" y="14840"/>
                  <a:pt x="9458" y="14873"/>
                  <a:pt x="9500" y="14883"/>
                </a:cubicBezTo>
                <a:cubicBezTo>
                  <a:pt x="9508" y="14883"/>
                  <a:pt x="9517" y="14883"/>
                  <a:pt x="9525" y="14883"/>
                </a:cubicBezTo>
                <a:cubicBezTo>
                  <a:pt x="9537" y="14890"/>
                  <a:pt x="9572" y="14895"/>
                  <a:pt x="9599" y="14908"/>
                </a:cubicBezTo>
                <a:cubicBezTo>
                  <a:pt x="9621" y="14919"/>
                  <a:pt x="9678" y="14967"/>
                  <a:pt x="9723" y="14982"/>
                </a:cubicBezTo>
                <a:cubicBezTo>
                  <a:pt x="9770" y="14998"/>
                  <a:pt x="9807" y="15016"/>
                  <a:pt x="9847" y="15032"/>
                </a:cubicBezTo>
                <a:cubicBezTo>
                  <a:pt x="9906" y="15056"/>
                  <a:pt x="9957" y="15086"/>
                  <a:pt x="10021" y="15106"/>
                </a:cubicBezTo>
                <a:cubicBezTo>
                  <a:pt x="10064" y="15119"/>
                  <a:pt x="10130" y="15116"/>
                  <a:pt x="10170" y="15131"/>
                </a:cubicBezTo>
                <a:cubicBezTo>
                  <a:pt x="10230" y="15154"/>
                  <a:pt x="10284" y="15183"/>
                  <a:pt x="10344" y="15205"/>
                </a:cubicBezTo>
                <a:cubicBezTo>
                  <a:pt x="10384" y="15219"/>
                  <a:pt x="10425" y="15243"/>
                  <a:pt x="10468" y="15255"/>
                </a:cubicBezTo>
                <a:cubicBezTo>
                  <a:pt x="10512" y="15268"/>
                  <a:pt x="10575" y="15264"/>
                  <a:pt x="10616" y="15280"/>
                </a:cubicBezTo>
                <a:cubicBezTo>
                  <a:pt x="10675" y="15303"/>
                  <a:pt x="10732" y="15335"/>
                  <a:pt x="10790" y="15354"/>
                </a:cubicBezTo>
                <a:cubicBezTo>
                  <a:pt x="10814" y="15369"/>
                  <a:pt x="10814" y="15372"/>
                  <a:pt x="10864" y="15379"/>
                </a:cubicBezTo>
                <a:cubicBezTo>
                  <a:pt x="10871" y="15406"/>
                  <a:pt x="10873" y="15408"/>
                  <a:pt x="10889" y="15429"/>
                </a:cubicBezTo>
                <a:cubicBezTo>
                  <a:pt x="10925" y="15449"/>
                  <a:pt x="10971" y="15481"/>
                  <a:pt x="11013" y="15503"/>
                </a:cubicBezTo>
                <a:cubicBezTo>
                  <a:pt x="11060" y="15528"/>
                  <a:pt x="11126" y="15532"/>
                  <a:pt x="11162" y="15553"/>
                </a:cubicBezTo>
                <a:cubicBezTo>
                  <a:pt x="11181" y="15564"/>
                  <a:pt x="11216" y="15611"/>
                  <a:pt x="11261" y="15627"/>
                </a:cubicBezTo>
                <a:cubicBezTo>
                  <a:pt x="11310" y="15645"/>
                  <a:pt x="11356" y="15659"/>
                  <a:pt x="11410" y="15677"/>
                </a:cubicBezTo>
                <a:cubicBezTo>
                  <a:pt x="11462" y="15694"/>
                  <a:pt x="11477" y="15705"/>
                  <a:pt x="11534" y="15726"/>
                </a:cubicBezTo>
                <a:cubicBezTo>
                  <a:pt x="11564" y="15737"/>
                  <a:pt x="11603" y="15738"/>
                  <a:pt x="11633" y="15751"/>
                </a:cubicBezTo>
                <a:cubicBezTo>
                  <a:pt x="11690" y="15776"/>
                  <a:pt x="11742" y="15798"/>
                  <a:pt x="11807" y="15825"/>
                </a:cubicBezTo>
                <a:cubicBezTo>
                  <a:pt x="11866" y="15850"/>
                  <a:pt x="11916" y="15881"/>
                  <a:pt x="11981" y="15900"/>
                </a:cubicBezTo>
                <a:cubicBezTo>
                  <a:pt x="12030" y="15914"/>
                  <a:pt x="12079" y="15934"/>
                  <a:pt x="12129" y="15949"/>
                </a:cubicBezTo>
                <a:cubicBezTo>
                  <a:pt x="12172" y="15962"/>
                  <a:pt x="12212" y="15960"/>
                  <a:pt x="12254" y="15974"/>
                </a:cubicBezTo>
                <a:cubicBezTo>
                  <a:pt x="12304" y="15991"/>
                  <a:pt x="12357" y="16007"/>
                  <a:pt x="12402" y="16024"/>
                </a:cubicBezTo>
                <a:cubicBezTo>
                  <a:pt x="12439" y="16038"/>
                  <a:pt x="12462" y="16062"/>
                  <a:pt x="12502" y="16073"/>
                </a:cubicBezTo>
                <a:cubicBezTo>
                  <a:pt x="12526" y="16073"/>
                  <a:pt x="12535" y="16073"/>
                  <a:pt x="12551" y="16073"/>
                </a:cubicBezTo>
                <a:cubicBezTo>
                  <a:pt x="12600" y="16096"/>
                  <a:pt x="12701" y="16121"/>
                  <a:pt x="12774" y="16148"/>
                </a:cubicBezTo>
                <a:cubicBezTo>
                  <a:pt x="12846" y="16174"/>
                  <a:pt x="12880" y="16180"/>
                  <a:pt x="12948" y="16197"/>
                </a:cubicBezTo>
                <a:cubicBezTo>
                  <a:pt x="13039" y="16220"/>
                  <a:pt x="13036" y="16210"/>
                  <a:pt x="13122" y="16197"/>
                </a:cubicBezTo>
                <a:cubicBezTo>
                  <a:pt x="13213" y="16183"/>
                  <a:pt x="13299" y="16170"/>
                  <a:pt x="13395" y="16197"/>
                </a:cubicBezTo>
                <a:cubicBezTo>
                  <a:pt x="13445" y="16211"/>
                  <a:pt x="13518" y="16263"/>
                  <a:pt x="13568" y="16272"/>
                </a:cubicBezTo>
                <a:cubicBezTo>
                  <a:pt x="13592" y="16277"/>
                  <a:pt x="13619" y="16266"/>
                  <a:pt x="13643" y="16272"/>
                </a:cubicBezTo>
                <a:cubicBezTo>
                  <a:pt x="13651" y="16275"/>
                  <a:pt x="13683" y="16290"/>
                  <a:pt x="13717" y="16297"/>
                </a:cubicBezTo>
                <a:cubicBezTo>
                  <a:pt x="13750" y="16304"/>
                  <a:pt x="13802" y="16312"/>
                  <a:pt x="13841" y="16321"/>
                </a:cubicBezTo>
                <a:cubicBezTo>
                  <a:pt x="13890" y="16333"/>
                  <a:pt x="13940" y="16336"/>
                  <a:pt x="13990" y="16346"/>
                </a:cubicBezTo>
                <a:cubicBezTo>
                  <a:pt x="14055" y="16359"/>
                  <a:pt x="14123" y="16381"/>
                  <a:pt x="14188" y="16396"/>
                </a:cubicBezTo>
                <a:cubicBezTo>
                  <a:pt x="14241" y="16408"/>
                  <a:pt x="14310" y="16428"/>
                  <a:pt x="14362" y="16446"/>
                </a:cubicBezTo>
                <a:cubicBezTo>
                  <a:pt x="14385" y="16454"/>
                  <a:pt x="14410" y="16469"/>
                  <a:pt x="14412" y="16470"/>
                </a:cubicBezTo>
              </a:path>
              <a:path w="6103" h="4366">
                <a:moveTo>
                  <a:pt x="14759" y="16619"/>
                </a:moveTo>
                <a:cubicBezTo>
                  <a:pt x="14784" y="16557"/>
                  <a:pt x="14726" y="16481"/>
                  <a:pt x="14635" y="16520"/>
                </a:cubicBezTo>
                <a:cubicBezTo>
                  <a:pt x="14505" y="16576"/>
                  <a:pt x="14520" y="16762"/>
                  <a:pt x="14560" y="16842"/>
                </a:cubicBezTo>
                <a:cubicBezTo>
                  <a:pt x="14795" y="16788"/>
                  <a:pt x="14769" y="16712"/>
                  <a:pt x="14734" y="16495"/>
                </a:cubicBezTo>
              </a:path>
              <a:path w="6103" h="4366">
                <a:moveTo>
                  <a:pt x="14536" y="16098"/>
                </a:moveTo>
                <a:cubicBezTo>
                  <a:pt x="14634" y="16317"/>
                  <a:pt x="14702" y="16528"/>
                  <a:pt x="14734" y="16768"/>
                </a:cubicBezTo>
                <a:cubicBezTo>
                  <a:pt x="14734" y="16810"/>
                  <a:pt x="14734" y="16835"/>
                  <a:pt x="14734" y="16793"/>
                </a:cubicBezTo>
              </a:path>
            </a:pathLst>
          </a:custGeom>
          <a:noFill/>
          <a:ln cap="rnd" w="3492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46760" y="5081760"/>
            <a:ext cx="98280" cy="982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14015" y="14387"/>
                </a:moveTo>
                <a:lnTo>
                  <a:pt x="14015" y="14387"/>
                </a:lnTo>
                <a:lnTo>
                  <a:pt x="14015" y="14387"/>
                </a:lnTo>
              </a:path>
              <a:path w="274" h="274">
                <a:moveTo>
                  <a:pt x="13990" y="14288"/>
                </a:moveTo>
                <a:cubicBezTo>
                  <a:pt x="13982" y="14288"/>
                  <a:pt x="13973" y="14288"/>
                  <a:pt x="13965" y="14288"/>
                </a:cubicBezTo>
              </a:path>
              <a:path w="274" h="274">
                <a:moveTo>
                  <a:pt x="13940" y="14263"/>
                </a:moveTo>
                <a:lnTo>
                  <a:pt x="13940" y="14263"/>
                </a:lnTo>
                <a:lnTo>
                  <a:pt x="13940" y="14263"/>
                </a:lnTo>
              </a:path>
              <a:path w="274" h="274">
                <a:moveTo>
                  <a:pt x="13891" y="14213"/>
                </a:moveTo>
                <a:cubicBezTo>
                  <a:pt x="13883" y="14221"/>
                  <a:pt x="13874" y="14230"/>
                  <a:pt x="13866" y="14238"/>
                </a:cubicBezTo>
              </a:path>
              <a:path w="274" h="274">
                <a:moveTo>
                  <a:pt x="13841" y="14213"/>
                </a:moveTo>
                <a:lnTo>
                  <a:pt x="13841" y="14213"/>
                </a:lnTo>
              </a:path>
              <a:path w="274" h="274">
                <a:moveTo>
                  <a:pt x="13816" y="14163"/>
                </a:moveTo>
                <a:lnTo>
                  <a:pt x="13816" y="14163"/>
                </a:lnTo>
                <a:lnTo>
                  <a:pt x="13816" y="14163"/>
                </a:lnTo>
              </a:path>
              <a:path w="274" h="274">
                <a:moveTo>
                  <a:pt x="13816" y="14163"/>
                </a:moveTo>
                <a:lnTo>
                  <a:pt x="13816" y="14163"/>
                </a:lnTo>
              </a:path>
              <a:path w="274" h="274">
                <a:moveTo>
                  <a:pt x="13791" y="14139"/>
                </a:moveTo>
                <a:lnTo>
                  <a:pt x="13791" y="14139"/>
                </a:lnTo>
              </a:path>
              <a:path w="274" h="274">
                <a:moveTo>
                  <a:pt x="13742" y="14114"/>
                </a:moveTo>
                <a:lnTo>
                  <a:pt x="13742" y="14114"/>
                </a:lnTo>
                <a:lnTo>
                  <a:pt x="13742" y="14114"/>
                </a:lnTo>
              </a:path>
              <a:path w="274" h="274">
                <a:moveTo>
                  <a:pt x="13742" y="14114"/>
                </a:moveTo>
                <a:lnTo>
                  <a:pt x="13742" y="1411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48120" y="4991040"/>
            <a:ext cx="108000" cy="73080"/>
          </a:xfrm>
          <a:custGeom>
            <a:avLst/>
            <a:gdLst/>
            <a:ahLst/>
            <a:rect l="l" t="t" r="r" b="b"/>
            <a:pathLst>
              <a:path w="299" h="199">
                <a:moveTo>
                  <a:pt x="13767" y="14064"/>
                </a:moveTo>
                <a:cubicBezTo>
                  <a:pt x="13759" y="14056"/>
                  <a:pt x="13750" y="14047"/>
                  <a:pt x="13742" y="14039"/>
                </a:cubicBezTo>
              </a:path>
              <a:path w="299" h="199">
                <a:moveTo>
                  <a:pt x="13717" y="14039"/>
                </a:moveTo>
                <a:lnTo>
                  <a:pt x="13717" y="14039"/>
                </a:lnTo>
                <a:lnTo>
                  <a:pt x="13717" y="14039"/>
                </a:lnTo>
              </a:path>
              <a:path w="299" h="199">
                <a:moveTo>
                  <a:pt x="13717" y="14039"/>
                </a:moveTo>
                <a:lnTo>
                  <a:pt x="13717" y="14039"/>
                </a:lnTo>
              </a:path>
              <a:path w="299" h="199">
                <a:moveTo>
                  <a:pt x="13717" y="14015"/>
                </a:moveTo>
                <a:lnTo>
                  <a:pt x="13717" y="14015"/>
                </a:lnTo>
              </a:path>
              <a:path w="299" h="199">
                <a:moveTo>
                  <a:pt x="13717" y="13990"/>
                </a:moveTo>
                <a:lnTo>
                  <a:pt x="13717" y="13990"/>
                </a:lnTo>
                <a:lnTo>
                  <a:pt x="13717" y="13990"/>
                </a:lnTo>
              </a:path>
              <a:path w="299" h="199">
                <a:moveTo>
                  <a:pt x="13717" y="13990"/>
                </a:moveTo>
                <a:lnTo>
                  <a:pt x="13717" y="13990"/>
                </a:lnTo>
              </a:path>
              <a:path w="299" h="199">
                <a:moveTo>
                  <a:pt x="13643" y="13940"/>
                </a:moveTo>
                <a:lnTo>
                  <a:pt x="13643" y="13940"/>
                </a:lnTo>
              </a:path>
              <a:path w="299" h="199">
                <a:moveTo>
                  <a:pt x="13643" y="13915"/>
                </a:moveTo>
                <a:cubicBezTo>
                  <a:pt x="13635" y="13915"/>
                  <a:pt x="13626" y="13915"/>
                  <a:pt x="13618" y="13915"/>
                </a:cubicBezTo>
              </a:path>
              <a:path w="299" h="199">
                <a:moveTo>
                  <a:pt x="13618" y="13915"/>
                </a:moveTo>
                <a:lnTo>
                  <a:pt x="13618" y="13915"/>
                </a:lnTo>
              </a:path>
              <a:path w="299" h="199">
                <a:moveTo>
                  <a:pt x="13568" y="13915"/>
                </a:moveTo>
                <a:cubicBezTo>
                  <a:pt x="13568" y="13907"/>
                  <a:pt x="13568" y="13899"/>
                  <a:pt x="13568" y="13891"/>
                </a:cubicBezTo>
              </a:path>
              <a:path w="299" h="199">
                <a:moveTo>
                  <a:pt x="13519" y="13891"/>
                </a:moveTo>
                <a:lnTo>
                  <a:pt x="13519" y="13891"/>
                </a:lnTo>
              </a:path>
              <a:path w="299" h="199">
                <a:moveTo>
                  <a:pt x="13469" y="13866"/>
                </a:moveTo>
                <a:lnTo>
                  <a:pt x="13469" y="13866"/>
                </a:lnTo>
                <a:lnTo>
                  <a:pt x="13469" y="13866"/>
                </a:lnTo>
              </a:path>
              <a:path w="299" h="199">
                <a:moveTo>
                  <a:pt x="13469" y="13866"/>
                </a:moveTo>
                <a:lnTo>
                  <a:pt x="13469" y="1386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81360" y="4848120"/>
            <a:ext cx="249480" cy="125640"/>
          </a:xfrm>
          <a:custGeom>
            <a:avLst/>
            <a:gdLst/>
            <a:ahLst/>
            <a:rect l="l" t="t" r="r" b="b"/>
            <a:pathLst>
              <a:path w="695" h="348">
                <a:moveTo>
                  <a:pt x="13419" y="13816"/>
                </a:moveTo>
                <a:cubicBezTo>
                  <a:pt x="13419" y="13808"/>
                  <a:pt x="13419" y="13799"/>
                  <a:pt x="13419" y="13791"/>
                </a:cubicBezTo>
              </a:path>
              <a:path w="695" h="348">
                <a:moveTo>
                  <a:pt x="13345" y="13717"/>
                </a:moveTo>
                <a:lnTo>
                  <a:pt x="13345" y="13717"/>
                </a:lnTo>
                <a:lnTo>
                  <a:pt x="13345" y="13717"/>
                </a:lnTo>
              </a:path>
              <a:path w="695" h="348">
                <a:moveTo>
                  <a:pt x="13345" y="13717"/>
                </a:moveTo>
                <a:lnTo>
                  <a:pt x="13345" y="13717"/>
                </a:lnTo>
              </a:path>
              <a:path w="695" h="348">
                <a:moveTo>
                  <a:pt x="13271" y="13717"/>
                </a:moveTo>
                <a:lnTo>
                  <a:pt x="13271" y="13717"/>
                </a:lnTo>
              </a:path>
              <a:path w="695" h="348">
                <a:moveTo>
                  <a:pt x="13246" y="13717"/>
                </a:moveTo>
                <a:lnTo>
                  <a:pt x="13246" y="13717"/>
                </a:lnTo>
                <a:lnTo>
                  <a:pt x="13246" y="13717"/>
                </a:lnTo>
              </a:path>
              <a:path w="695" h="348">
                <a:moveTo>
                  <a:pt x="13246" y="13717"/>
                </a:moveTo>
                <a:lnTo>
                  <a:pt x="13246" y="13717"/>
                </a:lnTo>
              </a:path>
              <a:path w="695" h="348">
                <a:moveTo>
                  <a:pt x="13221" y="13717"/>
                </a:moveTo>
                <a:cubicBezTo>
                  <a:pt x="13221" y="13709"/>
                  <a:pt x="13221" y="13700"/>
                  <a:pt x="13221" y="13692"/>
                </a:cubicBezTo>
              </a:path>
              <a:path w="695" h="348">
                <a:moveTo>
                  <a:pt x="13146" y="13667"/>
                </a:moveTo>
                <a:cubicBezTo>
                  <a:pt x="13146" y="13659"/>
                  <a:pt x="13146" y="13651"/>
                  <a:pt x="13146" y="13643"/>
                </a:cubicBezTo>
              </a:path>
              <a:path w="695" h="348">
                <a:moveTo>
                  <a:pt x="13146" y="13643"/>
                </a:moveTo>
                <a:lnTo>
                  <a:pt x="13146" y="13643"/>
                </a:lnTo>
              </a:path>
              <a:path w="695" h="348">
                <a:moveTo>
                  <a:pt x="13097" y="13618"/>
                </a:moveTo>
                <a:lnTo>
                  <a:pt x="13097" y="13618"/>
                </a:lnTo>
              </a:path>
              <a:path w="695" h="348">
                <a:moveTo>
                  <a:pt x="13047" y="13618"/>
                </a:moveTo>
                <a:lnTo>
                  <a:pt x="13047" y="13618"/>
                </a:lnTo>
                <a:lnTo>
                  <a:pt x="13047" y="13618"/>
                </a:lnTo>
                <a:lnTo>
                  <a:pt x="13047" y="13618"/>
                </a:lnTo>
              </a:path>
              <a:path w="695" h="348">
                <a:moveTo>
                  <a:pt x="13047" y="13618"/>
                </a:moveTo>
                <a:lnTo>
                  <a:pt x="13047" y="13618"/>
                </a:lnTo>
              </a:path>
              <a:path w="695" h="348">
                <a:moveTo>
                  <a:pt x="13047" y="13618"/>
                </a:moveTo>
                <a:lnTo>
                  <a:pt x="13047" y="13618"/>
                </a:lnTo>
              </a:path>
              <a:path w="695" h="348">
                <a:moveTo>
                  <a:pt x="12998" y="13643"/>
                </a:moveTo>
                <a:lnTo>
                  <a:pt x="12998" y="13643"/>
                </a:lnTo>
                <a:lnTo>
                  <a:pt x="12998" y="13643"/>
                </a:lnTo>
              </a:path>
              <a:path w="695" h="348">
                <a:moveTo>
                  <a:pt x="12998" y="13643"/>
                </a:moveTo>
                <a:lnTo>
                  <a:pt x="12998" y="13643"/>
                </a:lnTo>
              </a:path>
              <a:path w="695" h="348">
                <a:moveTo>
                  <a:pt x="12973" y="13618"/>
                </a:moveTo>
                <a:lnTo>
                  <a:pt x="12973" y="13618"/>
                </a:lnTo>
              </a:path>
              <a:path w="695" h="348">
                <a:moveTo>
                  <a:pt x="12973" y="13593"/>
                </a:moveTo>
                <a:lnTo>
                  <a:pt x="12973" y="13593"/>
                </a:lnTo>
                <a:lnTo>
                  <a:pt x="12973" y="13593"/>
                </a:lnTo>
              </a:path>
              <a:path w="695" h="348">
                <a:moveTo>
                  <a:pt x="12973" y="13593"/>
                </a:moveTo>
                <a:lnTo>
                  <a:pt x="12973" y="13593"/>
                </a:lnTo>
              </a:path>
              <a:path w="695" h="348">
                <a:moveTo>
                  <a:pt x="12849" y="13568"/>
                </a:moveTo>
                <a:lnTo>
                  <a:pt x="12849" y="13568"/>
                </a:lnTo>
              </a:path>
              <a:path w="695" h="348">
                <a:moveTo>
                  <a:pt x="12750" y="13494"/>
                </a:moveTo>
                <a:lnTo>
                  <a:pt x="12750" y="13494"/>
                </a:lnTo>
                <a:lnTo>
                  <a:pt x="12750" y="13494"/>
                </a:lnTo>
              </a:path>
              <a:path w="695" h="348">
                <a:moveTo>
                  <a:pt x="12750" y="13494"/>
                </a:moveTo>
                <a:lnTo>
                  <a:pt x="12750" y="13494"/>
                </a:lnTo>
              </a:path>
              <a:path w="695" h="348">
                <a:moveTo>
                  <a:pt x="12725" y="13469"/>
                </a:moveTo>
                <a:lnTo>
                  <a:pt x="12725" y="13469"/>
                </a:lnTo>
              </a:path>
              <a:path w="695" h="348">
                <a:moveTo>
                  <a:pt x="12725" y="13469"/>
                </a:moveTo>
                <a:lnTo>
                  <a:pt x="12725" y="13469"/>
                </a:lnTo>
                <a:lnTo>
                  <a:pt x="12725" y="13469"/>
                </a:lnTo>
              </a:path>
              <a:path w="695" h="348">
                <a:moveTo>
                  <a:pt x="12725" y="13469"/>
                </a:moveTo>
                <a:lnTo>
                  <a:pt x="12725" y="13469"/>
                </a:lnTo>
              </a:path>
              <a:path w="695" h="348">
                <a:moveTo>
                  <a:pt x="12750" y="13494"/>
                </a:moveTo>
                <a:lnTo>
                  <a:pt x="12750" y="13494"/>
                </a:lnTo>
              </a:path>
              <a:path w="695" h="348">
                <a:moveTo>
                  <a:pt x="12998" y="13643"/>
                </a:moveTo>
                <a:lnTo>
                  <a:pt x="12998" y="13643"/>
                </a:lnTo>
              </a:path>
              <a:path w="695" h="348">
                <a:moveTo>
                  <a:pt x="13072" y="13643"/>
                </a:moveTo>
                <a:cubicBezTo>
                  <a:pt x="13080" y="13643"/>
                  <a:pt x="13089" y="13643"/>
                  <a:pt x="13097" y="13643"/>
                </a:cubicBezTo>
              </a:path>
              <a:path w="695" h="348">
                <a:moveTo>
                  <a:pt x="13097" y="13643"/>
                </a:moveTo>
                <a:lnTo>
                  <a:pt x="13097" y="1364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32200" y="495612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13146" y="13767"/>
                </a:moveTo>
                <a:cubicBezTo>
                  <a:pt x="13171" y="13767"/>
                  <a:pt x="13196" y="13767"/>
                  <a:pt x="13221" y="13767"/>
                </a:cubicBezTo>
                <a:cubicBezTo>
                  <a:pt x="13221" y="13827"/>
                  <a:pt x="13232" y="13814"/>
                  <a:pt x="13271" y="13841"/>
                </a:cubicBezTo>
                <a:cubicBezTo>
                  <a:pt x="13321" y="13875"/>
                  <a:pt x="13376" y="13881"/>
                  <a:pt x="13419" y="13915"/>
                </a:cubicBezTo>
                <a:cubicBezTo>
                  <a:pt x="13460" y="13947"/>
                  <a:pt x="13490" y="13958"/>
                  <a:pt x="13543" y="139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84840" y="5054760"/>
            <a:ext cx="1036440" cy="911160"/>
          </a:xfrm>
          <a:custGeom>
            <a:avLst/>
            <a:gdLst/>
            <a:ahLst/>
            <a:rect l="l" t="t" r="r" b="b"/>
            <a:pathLst>
              <a:path w="2879" h="2532">
                <a:moveTo>
                  <a:pt x="13568" y="14039"/>
                </a:moveTo>
                <a:cubicBezTo>
                  <a:pt x="13588" y="14080"/>
                  <a:pt x="13586" y="14096"/>
                  <a:pt x="13618" y="14089"/>
                </a:cubicBezTo>
              </a:path>
              <a:path w="2879" h="2532">
                <a:moveTo>
                  <a:pt x="13618" y="14089"/>
                </a:moveTo>
                <a:lnTo>
                  <a:pt x="13618" y="14089"/>
                </a:lnTo>
              </a:path>
              <a:path w="2879" h="2532">
                <a:moveTo>
                  <a:pt x="13717" y="14213"/>
                </a:moveTo>
                <a:cubicBezTo>
                  <a:pt x="13725" y="14213"/>
                  <a:pt x="13734" y="14213"/>
                  <a:pt x="13742" y="14213"/>
                </a:cubicBezTo>
              </a:path>
              <a:path w="2879" h="2532">
                <a:moveTo>
                  <a:pt x="16272" y="16123"/>
                </a:moveTo>
                <a:cubicBezTo>
                  <a:pt x="16312" y="16265"/>
                  <a:pt x="16337" y="16482"/>
                  <a:pt x="16446" y="165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8880" y="5803920"/>
            <a:ext cx="795240" cy="241200"/>
          </a:xfrm>
          <a:custGeom>
            <a:avLst/>
            <a:gdLst/>
            <a:ahLst/>
            <a:rect l="l" t="t" r="r" b="b"/>
            <a:pathLst>
              <a:path w="2209" h="671">
                <a:moveTo>
                  <a:pt x="15404" y="16470"/>
                </a:moveTo>
                <a:cubicBezTo>
                  <a:pt x="15359" y="16383"/>
                  <a:pt x="15281" y="16343"/>
                  <a:pt x="15205" y="16446"/>
                </a:cubicBezTo>
                <a:cubicBezTo>
                  <a:pt x="15102" y="16586"/>
                  <a:pt x="15107" y="16657"/>
                  <a:pt x="15156" y="16793"/>
                </a:cubicBezTo>
                <a:cubicBezTo>
                  <a:pt x="15211" y="16754"/>
                  <a:pt x="15418" y="16614"/>
                  <a:pt x="15280" y="16520"/>
                </a:cubicBezTo>
                <a:cubicBezTo>
                  <a:pt x="15280" y="16528"/>
                  <a:pt x="15280" y="16537"/>
                  <a:pt x="15280" y="16545"/>
                </a:cubicBezTo>
                <a:cubicBezTo>
                  <a:pt x="15334" y="16629"/>
                  <a:pt x="15450" y="16808"/>
                  <a:pt x="15528" y="16619"/>
                </a:cubicBezTo>
                <a:cubicBezTo>
                  <a:pt x="15550" y="16512"/>
                  <a:pt x="15558" y="16488"/>
                  <a:pt x="15553" y="16421"/>
                </a:cubicBezTo>
                <a:cubicBezTo>
                  <a:pt x="15553" y="16495"/>
                  <a:pt x="15553" y="16570"/>
                  <a:pt x="15553" y="16644"/>
                </a:cubicBezTo>
                <a:cubicBezTo>
                  <a:pt x="15547" y="16605"/>
                  <a:pt x="15481" y="16417"/>
                  <a:pt x="15553" y="16421"/>
                </a:cubicBezTo>
                <a:cubicBezTo>
                  <a:pt x="15664" y="16428"/>
                  <a:pt x="15711" y="16527"/>
                  <a:pt x="15726" y="16619"/>
                </a:cubicBezTo>
                <a:cubicBezTo>
                  <a:pt x="15726" y="16516"/>
                  <a:pt x="15730" y="16351"/>
                  <a:pt x="15875" y="16346"/>
                </a:cubicBezTo>
                <a:cubicBezTo>
                  <a:pt x="16004" y="16342"/>
                  <a:pt x="15974" y="16572"/>
                  <a:pt x="15974" y="16644"/>
                </a:cubicBezTo>
                <a:cubicBezTo>
                  <a:pt x="15974" y="16590"/>
                  <a:pt x="15987" y="16556"/>
                  <a:pt x="16024" y="16520"/>
                </a:cubicBezTo>
              </a:path>
              <a:path w="2209" h="671">
                <a:moveTo>
                  <a:pt x="16049" y="16495"/>
                </a:moveTo>
                <a:cubicBezTo>
                  <a:pt x="16076" y="16483"/>
                  <a:pt x="16154" y="16474"/>
                  <a:pt x="16148" y="16446"/>
                </a:cubicBezTo>
                <a:cubicBezTo>
                  <a:pt x="16129" y="16388"/>
                  <a:pt x="16120" y="16381"/>
                  <a:pt x="16123" y="16346"/>
                </a:cubicBezTo>
                <a:cubicBezTo>
                  <a:pt x="16034" y="16424"/>
                  <a:pt x="16039" y="16451"/>
                  <a:pt x="16024" y="16570"/>
                </a:cubicBezTo>
                <a:cubicBezTo>
                  <a:pt x="16167" y="16605"/>
                  <a:pt x="16319" y="16624"/>
                  <a:pt x="16371" y="16446"/>
                </a:cubicBezTo>
                <a:cubicBezTo>
                  <a:pt x="16371" y="16413"/>
                  <a:pt x="16371" y="16379"/>
                  <a:pt x="16371" y="16346"/>
                </a:cubicBezTo>
              </a:path>
              <a:path w="2209" h="671">
                <a:moveTo>
                  <a:pt x="16197" y="16371"/>
                </a:moveTo>
                <a:cubicBezTo>
                  <a:pt x="16396" y="16349"/>
                  <a:pt x="16619" y="16255"/>
                  <a:pt x="16818" y="16321"/>
                </a:cubicBezTo>
                <a:cubicBezTo>
                  <a:pt x="16826" y="16324"/>
                  <a:pt x="16818" y="16356"/>
                  <a:pt x="16818" y="16297"/>
                </a:cubicBezTo>
                <a:cubicBezTo>
                  <a:pt x="16687" y="16198"/>
                  <a:pt x="16575" y="16206"/>
                  <a:pt x="16570" y="16421"/>
                </a:cubicBezTo>
                <a:cubicBezTo>
                  <a:pt x="16578" y="16462"/>
                  <a:pt x="16586" y="16504"/>
                  <a:pt x="16594" y="16545"/>
                </a:cubicBezTo>
                <a:cubicBezTo>
                  <a:pt x="16847" y="16573"/>
                  <a:pt x="16889" y="16512"/>
                  <a:pt x="17041" y="16321"/>
                </a:cubicBezTo>
                <a:cubicBezTo>
                  <a:pt x="17087" y="16263"/>
                  <a:pt x="17043" y="16415"/>
                  <a:pt x="17041" y="16446"/>
                </a:cubicBezTo>
                <a:cubicBezTo>
                  <a:pt x="17101" y="16464"/>
                  <a:pt x="17032" y="16193"/>
                  <a:pt x="17239" y="16123"/>
                </a:cubicBezTo>
                <a:cubicBezTo>
                  <a:pt x="17264" y="16131"/>
                  <a:pt x="17289" y="16140"/>
                  <a:pt x="17314" y="16148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77960" y="2963880"/>
            <a:ext cx="108000" cy="46080"/>
          </a:xfrm>
          <a:custGeom>
            <a:avLst/>
            <a:gdLst/>
            <a:ahLst/>
            <a:rect l="l" t="t" r="r" b="b"/>
            <a:pathLst>
              <a:path w="299" h="125">
                <a:moveTo>
                  <a:pt x="4663" y="8310"/>
                </a:moveTo>
                <a:cubicBezTo>
                  <a:pt x="4706" y="8245"/>
                  <a:pt x="4939" y="8227"/>
                  <a:pt x="4862" y="8235"/>
                </a:cubicBezTo>
                <a:cubicBezTo>
                  <a:pt x="4778" y="8256"/>
                  <a:pt x="4758" y="8257"/>
                  <a:pt x="4713" y="8285"/>
                </a:cubicBezTo>
                <a:cubicBezTo>
                  <a:pt x="4638" y="8285"/>
                  <a:pt x="4835" y="8261"/>
                  <a:pt x="4837" y="8260"/>
                </a:cubicBezTo>
                <a:cubicBezTo>
                  <a:pt x="4974" y="8221"/>
                  <a:pt x="4734" y="8279"/>
                  <a:pt x="4688" y="8310"/>
                </a:cubicBezTo>
                <a:cubicBezTo>
                  <a:pt x="4611" y="8362"/>
                  <a:pt x="4873" y="8290"/>
                  <a:pt x="4961" y="8260"/>
                </a:cubicBezTo>
                <a:cubicBezTo>
                  <a:pt x="4910" y="8260"/>
                  <a:pt x="4877" y="8266"/>
                  <a:pt x="4837" y="8285"/>
                </a:cubicBezTo>
                <a:cubicBezTo>
                  <a:pt x="4562" y="8349"/>
                  <a:pt x="4875" y="8300"/>
                  <a:pt x="4936" y="8285"/>
                </a:cubicBezTo>
                <a:cubicBezTo>
                  <a:pt x="5006" y="8267"/>
                  <a:pt x="4867" y="8338"/>
                  <a:pt x="4837" y="83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which is shown, the radius or the diamete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3623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23623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48006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48769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362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1722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2057040" y="49525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248520" y="5105160"/>
            <a:ext cx="83808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87760" y="3089160"/>
            <a:ext cx="366480" cy="509760"/>
          </a:xfrm>
          <a:custGeom>
            <a:avLst/>
            <a:gdLst/>
            <a:ahLst/>
            <a:rect l="l" t="t" r="r" b="b"/>
            <a:pathLst>
              <a:path w="1018" h="1415">
                <a:moveTo>
                  <a:pt x="7863" y="9227"/>
                </a:moveTo>
                <a:cubicBezTo>
                  <a:pt x="7764" y="9168"/>
                  <a:pt x="7739" y="9128"/>
                  <a:pt x="7615" y="9178"/>
                </a:cubicBezTo>
                <a:cubicBezTo>
                  <a:pt x="7385" y="9271"/>
                  <a:pt x="7426" y="9706"/>
                  <a:pt x="7516" y="9897"/>
                </a:cubicBezTo>
                <a:cubicBezTo>
                  <a:pt x="7549" y="9930"/>
                  <a:pt x="7582" y="9963"/>
                  <a:pt x="7615" y="9996"/>
                </a:cubicBezTo>
                <a:cubicBezTo>
                  <a:pt x="7861" y="9776"/>
                  <a:pt x="7948" y="9523"/>
                  <a:pt x="7838" y="9178"/>
                </a:cubicBezTo>
                <a:cubicBezTo>
                  <a:pt x="7776" y="8982"/>
                  <a:pt x="7631" y="8771"/>
                  <a:pt x="7541" y="8582"/>
                </a:cubicBezTo>
                <a:cubicBezTo>
                  <a:pt x="7576" y="8882"/>
                  <a:pt x="7636" y="9244"/>
                  <a:pt x="7813" y="9500"/>
                </a:cubicBezTo>
                <a:cubicBezTo>
                  <a:pt x="8046" y="9837"/>
                  <a:pt x="8260" y="9485"/>
                  <a:pt x="8434" y="9327"/>
                </a:cubicBezTo>
                <a:cubicBezTo>
                  <a:pt x="8450" y="9319"/>
                  <a:pt x="8467" y="9310"/>
                  <a:pt x="8483" y="9302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00880" y="3321000"/>
            <a:ext cx="277920" cy="339840"/>
          </a:xfrm>
          <a:custGeom>
            <a:avLst/>
            <a:gdLst/>
            <a:ahLst/>
            <a:rect l="l" t="t" r="r" b="b"/>
            <a:pathLst>
              <a:path w="770" h="944">
                <a:moveTo>
                  <a:pt x="18058" y="9401"/>
                </a:moveTo>
                <a:cubicBezTo>
                  <a:pt x="18166" y="9617"/>
                  <a:pt x="18233" y="9879"/>
                  <a:pt x="18281" y="10120"/>
                </a:cubicBezTo>
                <a:cubicBezTo>
                  <a:pt x="18281" y="10137"/>
                  <a:pt x="18281" y="10153"/>
                  <a:pt x="18281" y="10170"/>
                </a:cubicBezTo>
                <a:cubicBezTo>
                  <a:pt x="18251" y="9933"/>
                  <a:pt x="18212" y="9823"/>
                  <a:pt x="18281" y="9575"/>
                </a:cubicBezTo>
                <a:cubicBezTo>
                  <a:pt x="18358" y="9300"/>
                  <a:pt x="18550" y="9239"/>
                  <a:pt x="18802" y="9227"/>
                </a:cubicBezTo>
                <a:cubicBezTo>
                  <a:pt x="18810" y="9227"/>
                  <a:pt x="18819" y="9227"/>
                  <a:pt x="18827" y="9227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5840" y="5786280"/>
            <a:ext cx="249120" cy="295560"/>
          </a:xfrm>
          <a:custGeom>
            <a:avLst/>
            <a:gdLst/>
            <a:ahLst/>
            <a:rect l="l" t="t" r="r" b="b"/>
            <a:pathLst>
              <a:path w="695" h="820">
                <a:moveTo>
                  <a:pt x="7317" y="16297"/>
                </a:moveTo>
                <a:cubicBezTo>
                  <a:pt x="7297" y="16428"/>
                  <a:pt x="7446" y="16683"/>
                  <a:pt x="7516" y="16842"/>
                </a:cubicBezTo>
                <a:cubicBezTo>
                  <a:pt x="7568" y="16929"/>
                  <a:pt x="7456" y="16769"/>
                  <a:pt x="7441" y="16669"/>
                </a:cubicBezTo>
                <a:cubicBezTo>
                  <a:pt x="7399" y="16392"/>
                  <a:pt x="7574" y="16058"/>
                  <a:pt x="7888" y="16073"/>
                </a:cubicBezTo>
                <a:cubicBezTo>
                  <a:pt x="7947" y="16113"/>
                  <a:pt x="7959" y="16117"/>
                  <a:pt x="7987" y="16148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34120" y="5187960"/>
            <a:ext cx="250920" cy="598320"/>
          </a:xfrm>
          <a:custGeom>
            <a:avLst/>
            <a:gdLst/>
            <a:ahLst/>
            <a:rect l="l" t="t" r="r" b="b"/>
            <a:pathLst>
              <a:path w="695" h="1662">
                <a:moveTo>
                  <a:pt x="20439" y="15478"/>
                </a:moveTo>
                <a:cubicBezTo>
                  <a:pt x="20390" y="15351"/>
                  <a:pt x="20223" y="15037"/>
                  <a:pt x="20017" y="15180"/>
                </a:cubicBezTo>
                <a:cubicBezTo>
                  <a:pt x="19762" y="15357"/>
                  <a:pt x="19844" y="15726"/>
                  <a:pt x="19844" y="15974"/>
                </a:cubicBezTo>
                <a:cubicBezTo>
                  <a:pt x="19996" y="16075"/>
                  <a:pt x="20048" y="16106"/>
                  <a:pt x="20166" y="15999"/>
                </a:cubicBezTo>
                <a:cubicBezTo>
                  <a:pt x="20448" y="15436"/>
                  <a:pt x="20347" y="15157"/>
                  <a:pt x="20141" y="14560"/>
                </a:cubicBezTo>
                <a:cubicBezTo>
                  <a:pt x="20006" y="14197"/>
                  <a:pt x="20253" y="15008"/>
                  <a:pt x="20365" y="15379"/>
                </a:cubicBezTo>
                <a:cubicBezTo>
                  <a:pt x="20445" y="15620"/>
                  <a:pt x="20456" y="15663"/>
                  <a:pt x="20513" y="15801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iameter, given the radiu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r = 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r = 1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r = 3.8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r = 27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80880"/>
            <a:ext cx="37339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the radius, given the diame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) d = 24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) d = 9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) d = 36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) d = 15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8960" y="3554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37" y="9872"/>
                </a:moveTo>
                <a:lnTo>
                  <a:pt x="1637" y="987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73840" y="1785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594" y="4961"/>
                </a:moveTo>
                <a:lnTo>
                  <a:pt x="16594" y="496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67080" y="1884240"/>
            <a:ext cx="106200" cy="9720"/>
          </a:xfrm>
          <a:custGeom>
            <a:avLst/>
            <a:gdLst/>
            <a:ahLst/>
            <a:rect l="l" t="t" r="r" b="b"/>
            <a:pathLst>
              <a:path w="299" h="26">
                <a:moveTo>
                  <a:pt x="9351" y="5259"/>
                </a:moveTo>
                <a:cubicBezTo>
                  <a:pt x="9453" y="5254"/>
                  <a:pt x="9548" y="5243"/>
                  <a:pt x="9649" y="5234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4240" y="1608120"/>
            <a:ext cx="384120" cy="347760"/>
          </a:xfrm>
          <a:custGeom>
            <a:avLst/>
            <a:gdLst/>
            <a:ahLst/>
            <a:rect l="l" t="t" r="r" b="b"/>
            <a:pathLst>
              <a:path w="1068" h="968">
                <a:moveTo>
                  <a:pt x="8855" y="5035"/>
                </a:moveTo>
                <a:cubicBezTo>
                  <a:pt x="8855" y="4956"/>
                  <a:pt x="8849" y="4966"/>
                  <a:pt x="8806" y="4887"/>
                </a:cubicBezTo>
                <a:cubicBezTo>
                  <a:pt x="8601" y="4853"/>
                  <a:pt x="8525" y="5039"/>
                  <a:pt x="8483" y="5234"/>
                </a:cubicBezTo>
                <a:cubicBezTo>
                  <a:pt x="8483" y="5284"/>
                  <a:pt x="8483" y="5333"/>
                  <a:pt x="8483" y="5383"/>
                </a:cubicBezTo>
                <a:cubicBezTo>
                  <a:pt x="8752" y="5449"/>
                  <a:pt x="8891" y="5298"/>
                  <a:pt x="8930" y="5011"/>
                </a:cubicBezTo>
                <a:cubicBezTo>
                  <a:pt x="8930" y="4769"/>
                  <a:pt x="8938" y="4707"/>
                  <a:pt x="8880" y="4564"/>
                </a:cubicBezTo>
                <a:cubicBezTo>
                  <a:pt x="8863" y="4521"/>
                  <a:pt x="8842" y="4413"/>
                  <a:pt x="8855" y="4490"/>
                </a:cubicBezTo>
                <a:cubicBezTo>
                  <a:pt x="8904" y="4790"/>
                  <a:pt x="8860" y="5144"/>
                  <a:pt x="8930" y="5432"/>
                </a:cubicBezTo>
                <a:cubicBezTo>
                  <a:pt x="8938" y="5432"/>
                  <a:pt x="8946" y="5432"/>
                  <a:pt x="8954" y="5432"/>
                </a:cubicBezTo>
              </a:path>
              <a:path w="1068" h="968">
                <a:moveTo>
                  <a:pt x="9252" y="5085"/>
                </a:moveTo>
                <a:cubicBezTo>
                  <a:pt x="9352" y="5078"/>
                  <a:pt x="9449" y="5060"/>
                  <a:pt x="9550" y="5060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79920" y="1660680"/>
            <a:ext cx="268200" cy="285480"/>
          </a:xfrm>
          <a:custGeom>
            <a:avLst/>
            <a:gdLst/>
            <a:ahLst/>
            <a:rect l="l" t="t" r="r" b="b"/>
            <a:pathLst>
              <a:path w="745" h="794">
                <a:moveTo>
                  <a:pt x="10220" y="4688"/>
                </a:moveTo>
                <a:cubicBezTo>
                  <a:pt x="10236" y="4885"/>
                  <a:pt x="10301" y="5113"/>
                  <a:pt x="10294" y="5308"/>
                </a:cubicBezTo>
                <a:cubicBezTo>
                  <a:pt x="10286" y="5316"/>
                  <a:pt x="10277" y="5325"/>
                  <a:pt x="10269" y="5333"/>
                </a:cubicBezTo>
              </a:path>
              <a:path w="745" h="794">
                <a:moveTo>
                  <a:pt x="10592" y="4688"/>
                </a:moveTo>
                <a:cubicBezTo>
                  <a:pt x="10654" y="4611"/>
                  <a:pt x="10690" y="4626"/>
                  <a:pt x="10790" y="4614"/>
                </a:cubicBezTo>
                <a:cubicBezTo>
                  <a:pt x="10951" y="4856"/>
                  <a:pt x="11000" y="5081"/>
                  <a:pt x="10691" y="5259"/>
                </a:cubicBezTo>
                <a:cubicBezTo>
                  <a:pt x="10541" y="5301"/>
                  <a:pt x="10501" y="5335"/>
                  <a:pt x="10443" y="5234"/>
                </a:cubicBezTo>
                <a:cubicBezTo>
                  <a:pt x="10545" y="5105"/>
                  <a:pt x="10734" y="4954"/>
                  <a:pt x="10889" y="5159"/>
                </a:cubicBezTo>
                <a:cubicBezTo>
                  <a:pt x="10920" y="5201"/>
                  <a:pt x="10953" y="5343"/>
                  <a:pt x="10964" y="5407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98960" y="1785960"/>
            <a:ext cx="446040" cy="142920"/>
          </a:xfrm>
          <a:custGeom>
            <a:avLst/>
            <a:gdLst/>
            <a:ahLst/>
            <a:rect l="l" t="t" r="r" b="b"/>
            <a:pathLst>
              <a:path w="1242" h="398">
                <a:moveTo>
                  <a:pt x="11633" y="5060"/>
                </a:moveTo>
                <a:cubicBezTo>
                  <a:pt x="11633" y="5107"/>
                  <a:pt x="11610" y="5018"/>
                  <a:pt x="11584" y="4986"/>
                </a:cubicBezTo>
                <a:cubicBezTo>
                  <a:pt x="11440" y="5002"/>
                  <a:pt x="11346" y="5070"/>
                  <a:pt x="11410" y="5234"/>
                </a:cubicBezTo>
                <a:cubicBezTo>
                  <a:pt x="11496" y="5457"/>
                  <a:pt x="11742" y="5302"/>
                  <a:pt x="11807" y="5159"/>
                </a:cubicBezTo>
                <a:cubicBezTo>
                  <a:pt x="11843" y="5079"/>
                  <a:pt x="11866" y="4932"/>
                  <a:pt x="11807" y="5110"/>
                </a:cubicBezTo>
                <a:cubicBezTo>
                  <a:pt x="11807" y="5218"/>
                  <a:pt x="11792" y="5390"/>
                  <a:pt x="11807" y="5283"/>
                </a:cubicBezTo>
                <a:cubicBezTo>
                  <a:pt x="11821" y="5178"/>
                  <a:pt x="11879" y="4830"/>
                  <a:pt x="12055" y="5011"/>
                </a:cubicBezTo>
                <a:cubicBezTo>
                  <a:pt x="12150" y="5153"/>
                  <a:pt x="12181" y="5196"/>
                  <a:pt x="12204" y="5308"/>
                </a:cubicBezTo>
                <a:cubicBezTo>
                  <a:pt x="12204" y="5316"/>
                  <a:pt x="12204" y="5325"/>
                  <a:pt x="12204" y="5333"/>
                </a:cubicBezTo>
                <a:cubicBezTo>
                  <a:pt x="12204" y="5207"/>
                  <a:pt x="12241" y="5016"/>
                  <a:pt x="12378" y="4961"/>
                </a:cubicBezTo>
                <a:cubicBezTo>
                  <a:pt x="12557" y="4890"/>
                  <a:pt x="12617" y="5213"/>
                  <a:pt x="12626" y="5308"/>
                </a:cubicBezTo>
                <a:cubicBezTo>
                  <a:pt x="12626" y="5333"/>
                  <a:pt x="12626" y="5341"/>
                  <a:pt x="12601" y="5333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71880" y="2724120"/>
            <a:ext cx="54000" cy="312840"/>
          </a:xfrm>
          <a:custGeom>
            <a:avLst/>
            <a:gdLst/>
            <a:ahLst/>
            <a:rect l="l" t="t" r="r" b="b"/>
            <a:pathLst>
              <a:path w="150" h="870">
                <a:moveTo>
                  <a:pt x="8533" y="7565"/>
                </a:moveTo>
                <a:cubicBezTo>
                  <a:pt x="8590" y="7818"/>
                  <a:pt x="8656" y="8076"/>
                  <a:pt x="8682" y="8334"/>
                </a:cubicBezTo>
                <a:cubicBezTo>
                  <a:pt x="8682" y="8367"/>
                  <a:pt x="8682" y="8401"/>
                  <a:pt x="8682" y="8434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63880" y="2795760"/>
            <a:ext cx="1546200" cy="276120"/>
          </a:xfrm>
          <a:custGeom>
            <a:avLst/>
            <a:gdLst/>
            <a:ahLst/>
            <a:rect l="l" t="t" r="r" b="b"/>
            <a:pathLst>
              <a:path w="4292" h="770">
                <a:moveTo>
                  <a:pt x="8706" y="8235"/>
                </a:moveTo>
                <a:cubicBezTo>
                  <a:pt x="8658" y="8080"/>
                  <a:pt x="8596" y="7906"/>
                  <a:pt x="8384" y="8012"/>
                </a:cubicBezTo>
                <a:cubicBezTo>
                  <a:pt x="8200" y="8104"/>
                  <a:pt x="8259" y="8265"/>
                  <a:pt x="8285" y="8409"/>
                </a:cubicBezTo>
                <a:cubicBezTo>
                  <a:pt x="8546" y="8424"/>
                  <a:pt x="8581" y="8343"/>
                  <a:pt x="8682" y="8111"/>
                </a:cubicBezTo>
              </a:path>
              <a:path w="4292" h="770">
                <a:moveTo>
                  <a:pt x="8930" y="8111"/>
                </a:moveTo>
                <a:cubicBezTo>
                  <a:pt x="9048" y="8079"/>
                  <a:pt x="9154" y="8062"/>
                  <a:pt x="9277" y="8062"/>
                </a:cubicBezTo>
                <a:cubicBezTo>
                  <a:pt x="9312" y="8062"/>
                  <a:pt x="9316" y="8071"/>
                  <a:pt x="9277" y="8111"/>
                </a:cubicBezTo>
              </a:path>
              <a:path w="4292" h="770">
                <a:moveTo>
                  <a:pt x="8979" y="8285"/>
                </a:moveTo>
                <a:cubicBezTo>
                  <a:pt x="9114" y="8268"/>
                  <a:pt x="9240" y="8260"/>
                  <a:pt x="9376" y="8260"/>
                </a:cubicBezTo>
              </a:path>
              <a:path w="4292" h="770">
                <a:moveTo>
                  <a:pt x="9847" y="7913"/>
                </a:moveTo>
                <a:cubicBezTo>
                  <a:pt x="9897" y="7814"/>
                  <a:pt x="10089" y="7792"/>
                  <a:pt x="10195" y="7813"/>
                </a:cubicBezTo>
                <a:cubicBezTo>
                  <a:pt x="10220" y="7830"/>
                  <a:pt x="10244" y="7846"/>
                  <a:pt x="10269" y="7863"/>
                </a:cubicBezTo>
                <a:cubicBezTo>
                  <a:pt x="10173" y="8023"/>
                  <a:pt x="10116" y="8112"/>
                  <a:pt x="9922" y="8161"/>
                </a:cubicBezTo>
                <a:cubicBezTo>
                  <a:pt x="10052" y="8147"/>
                  <a:pt x="10444" y="8128"/>
                  <a:pt x="10244" y="8384"/>
                </a:cubicBezTo>
                <a:cubicBezTo>
                  <a:pt x="10119" y="8545"/>
                  <a:pt x="9807" y="8603"/>
                  <a:pt x="9773" y="8434"/>
                </a:cubicBezTo>
              </a:path>
              <a:path w="4292" h="770">
                <a:moveTo>
                  <a:pt x="10641" y="7764"/>
                </a:moveTo>
                <a:cubicBezTo>
                  <a:pt x="10536" y="7916"/>
                  <a:pt x="10389" y="8159"/>
                  <a:pt x="10443" y="8359"/>
                </a:cubicBezTo>
                <a:cubicBezTo>
                  <a:pt x="10468" y="8384"/>
                  <a:pt x="10492" y="8409"/>
                  <a:pt x="10517" y="8434"/>
                </a:cubicBezTo>
                <a:cubicBezTo>
                  <a:pt x="10799" y="8287"/>
                  <a:pt x="10859" y="8152"/>
                  <a:pt x="10691" y="7838"/>
                </a:cubicBezTo>
                <a:cubicBezTo>
                  <a:pt x="10635" y="7783"/>
                  <a:pt x="10637" y="7758"/>
                  <a:pt x="10592" y="7764"/>
                </a:cubicBezTo>
              </a:path>
              <a:path w="4292" h="770">
                <a:moveTo>
                  <a:pt x="11336" y="7888"/>
                </a:moveTo>
                <a:cubicBezTo>
                  <a:pt x="11148" y="7825"/>
                  <a:pt x="11078" y="7969"/>
                  <a:pt x="11088" y="8161"/>
                </a:cubicBezTo>
                <a:cubicBezTo>
                  <a:pt x="11104" y="8211"/>
                  <a:pt x="11121" y="8260"/>
                  <a:pt x="11137" y="8310"/>
                </a:cubicBezTo>
                <a:cubicBezTo>
                  <a:pt x="11475" y="8309"/>
                  <a:pt x="11485" y="8230"/>
                  <a:pt x="11658" y="7962"/>
                </a:cubicBezTo>
                <a:cubicBezTo>
                  <a:pt x="11666" y="7949"/>
                  <a:pt x="11721" y="8162"/>
                  <a:pt x="11733" y="8235"/>
                </a:cubicBezTo>
                <a:cubicBezTo>
                  <a:pt x="11733" y="8252"/>
                  <a:pt x="11733" y="8268"/>
                  <a:pt x="11733" y="8285"/>
                </a:cubicBezTo>
                <a:cubicBezTo>
                  <a:pt x="11733" y="8192"/>
                  <a:pt x="11701" y="7914"/>
                  <a:pt x="11807" y="7863"/>
                </a:cubicBezTo>
                <a:cubicBezTo>
                  <a:pt x="11950" y="7794"/>
                  <a:pt x="12026" y="8140"/>
                  <a:pt x="12055" y="8210"/>
                </a:cubicBezTo>
                <a:cubicBezTo>
                  <a:pt x="12047" y="8210"/>
                  <a:pt x="12038" y="8210"/>
                  <a:pt x="12030" y="8210"/>
                </a:cubicBezTo>
                <a:cubicBezTo>
                  <a:pt x="12051" y="8027"/>
                  <a:pt x="12086" y="7666"/>
                  <a:pt x="12378" y="7813"/>
                </a:cubicBezTo>
                <a:cubicBezTo>
                  <a:pt x="12563" y="7906"/>
                  <a:pt x="12526" y="8162"/>
                  <a:pt x="12477" y="8310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1800" y="3911760"/>
            <a:ext cx="990360" cy="312480"/>
          </a:xfrm>
          <a:custGeom>
            <a:avLst/>
            <a:gdLst/>
            <a:ahLst/>
            <a:rect l="l" t="t" r="r" b="b"/>
            <a:pathLst>
              <a:path w="2754" h="870">
                <a:moveTo>
                  <a:pt x="9004" y="11633"/>
                </a:moveTo>
                <a:cubicBezTo>
                  <a:pt x="9150" y="11613"/>
                  <a:pt x="9284" y="11593"/>
                  <a:pt x="9426" y="11559"/>
                </a:cubicBezTo>
              </a:path>
              <a:path w="2754" h="870">
                <a:moveTo>
                  <a:pt x="10492" y="11658"/>
                </a:moveTo>
                <a:cubicBezTo>
                  <a:pt x="10463" y="11688"/>
                  <a:pt x="10458" y="11703"/>
                  <a:pt x="10492" y="11733"/>
                </a:cubicBezTo>
              </a:path>
              <a:path w="2754" h="870">
                <a:moveTo>
                  <a:pt x="11757" y="10864"/>
                </a:moveTo>
                <a:lnTo>
                  <a:pt x="11757" y="10864"/>
                </a:ln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67040" y="3956040"/>
            <a:ext cx="500040" cy="357120"/>
          </a:xfrm>
          <a:custGeom>
            <a:avLst/>
            <a:gdLst/>
            <a:ahLst/>
            <a:rect l="l" t="t" r="r" b="b"/>
            <a:pathLst>
              <a:path w="1390" h="994">
                <a:moveTo>
                  <a:pt x="8607" y="11609"/>
                </a:moveTo>
                <a:cubicBezTo>
                  <a:pt x="8512" y="11530"/>
                  <a:pt x="8462" y="11383"/>
                  <a:pt x="8285" y="11435"/>
                </a:cubicBezTo>
                <a:cubicBezTo>
                  <a:pt x="7985" y="11523"/>
                  <a:pt x="7961" y="11781"/>
                  <a:pt x="8062" y="11981"/>
                </a:cubicBezTo>
                <a:cubicBezTo>
                  <a:pt x="8453" y="11940"/>
                  <a:pt x="8469" y="11891"/>
                  <a:pt x="8533" y="11509"/>
                </a:cubicBezTo>
              </a:path>
              <a:path w="1390" h="994">
                <a:moveTo>
                  <a:pt x="8458" y="10988"/>
                </a:moveTo>
                <a:cubicBezTo>
                  <a:pt x="8505" y="11130"/>
                  <a:pt x="8538" y="11329"/>
                  <a:pt x="8558" y="11509"/>
                </a:cubicBezTo>
                <a:cubicBezTo>
                  <a:pt x="8573" y="11647"/>
                  <a:pt x="8582" y="11748"/>
                  <a:pt x="8582" y="11881"/>
                </a:cubicBezTo>
              </a:path>
              <a:path w="1390" h="994">
                <a:moveTo>
                  <a:pt x="8979" y="11435"/>
                </a:moveTo>
                <a:cubicBezTo>
                  <a:pt x="9095" y="11412"/>
                  <a:pt x="9250" y="11357"/>
                  <a:pt x="9351" y="11385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17920" y="4000680"/>
            <a:ext cx="189000" cy="277560"/>
          </a:xfrm>
          <a:custGeom>
            <a:avLst/>
            <a:gdLst/>
            <a:ahLst/>
            <a:rect l="l" t="t" r="r" b="b"/>
            <a:pathLst>
              <a:path w="522" h="770">
                <a:moveTo>
                  <a:pt x="9798" y="11212"/>
                </a:moveTo>
                <a:cubicBezTo>
                  <a:pt x="9798" y="11267"/>
                  <a:pt x="9798" y="11478"/>
                  <a:pt x="9798" y="11435"/>
                </a:cubicBezTo>
                <a:cubicBezTo>
                  <a:pt x="9777" y="11289"/>
                  <a:pt x="9778" y="11204"/>
                  <a:pt x="9947" y="11162"/>
                </a:cubicBezTo>
                <a:cubicBezTo>
                  <a:pt x="10003" y="11148"/>
                  <a:pt x="10230" y="11154"/>
                  <a:pt x="10269" y="11137"/>
                </a:cubicBezTo>
                <a:cubicBezTo>
                  <a:pt x="10277" y="11129"/>
                  <a:pt x="10286" y="11120"/>
                  <a:pt x="10294" y="11112"/>
                </a:cubicBezTo>
                <a:cubicBezTo>
                  <a:pt x="10294" y="11318"/>
                  <a:pt x="10228" y="11512"/>
                  <a:pt x="10170" y="11708"/>
                </a:cubicBezTo>
                <a:cubicBezTo>
                  <a:pt x="10145" y="11793"/>
                  <a:pt x="10090" y="11866"/>
                  <a:pt x="10120" y="11881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75040" y="3973680"/>
            <a:ext cx="196920" cy="268200"/>
          </a:xfrm>
          <a:custGeom>
            <a:avLst/>
            <a:gdLst/>
            <a:ahLst/>
            <a:rect l="l" t="t" r="r" b="b"/>
            <a:pathLst>
              <a:path w="547" h="745">
                <a:moveTo>
                  <a:pt x="10815" y="11038"/>
                </a:moveTo>
                <a:cubicBezTo>
                  <a:pt x="10815" y="11199"/>
                  <a:pt x="10780" y="11326"/>
                  <a:pt x="10765" y="11485"/>
                </a:cubicBezTo>
                <a:cubicBezTo>
                  <a:pt x="10747" y="11674"/>
                  <a:pt x="10806" y="11842"/>
                  <a:pt x="11038" y="11782"/>
                </a:cubicBezTo>
                <a:cubicBezTo>
                  <a:pt x="11137" y="11756"/>
                  <a:pt x="11421" y="11578"/>
                  <a:pt x="11286" y="11435"/>
                </a:cubicBezTo>
                <a:cubicBezTo>
                  <a:pt x="11133" y="11273"/>
                  <a:pt x="11023" y="11581"/>
                  <a:pt x="10988" y="11658"/>
                </a:cubicBezTo>
                <a:cubicBezTo>
                  <a:pt x="10974" y="11837"/>
                  <a:pt x="11002" y="11755"/>
                  <a:pt x="11237" y="11683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4880" y="4071960"/>
            <a:ext cx="295200" cy="179280"/>
          </a:xfrm>
          <a:custGeom>
            <a:avLst/>
            <a:gdLst/>
            <a:ahLst/>
            <a:rect l="l" t="t" r="r" b="b"/>
            <a:pathLst>
              <a:path w="819" h="497">
                <a:moveTo>
                  <a:pt x="11733" y="11311"/>
                </a:moveTo>
                <a:cubicBezTo>
                  <a:pt x="11716" y="11428"/>
                  <a:pt x="11695" y="11552"/>
                  <a:pt x="11708" y="11683"/>
                </a:cubicBezTo>
                <a:cubicBezTo>
                  <a:pt x="11727" y="11867"/>
                  <a:pt x="11737" y="11815"/>
                  <a:pt x="11857" y="11733"/>
                </a:cubicBezTo>
              </a:path>
              <a:path w="819" h="497">
                <a:moveTo>
                  <a:pt x="12154" y="11336"/>
                </a:moveTo>
                <a:cubicBezTo>
                  <a:pt x="12138" y="11479"/>
                  <a:pt x="12122" y="11619"/>
                  <a:pt x="12105" y="11757"/>
                </a:cubicBezTo>
                <a:cubicBezTo>
                  <a:pt x="12120" y="11712"/>
                  <a:pt x="12135" y="11714"/>
                  <a:pt x="12154" y="11633"/>
                </a:cubicBezTo>
                <a:cubicBezTo>
                  <a:pt x="12179" y="11526"/>
                  <a:pt x="12142" y="11387"/>
                  <a:pt x="12254" y="11336"/>
                </a:cubicBezTo>
                <a:cubicBezTo>
                  <a:pt x="12417" y="11261"/>
                  <a:pt x="12506" y="11387"/>
                  <a:pt x="12526" y="11534"/>
                </a:cubicBezTo>
                <a:cubicBezTo>
                  <a:pt x="12529" y="11554"/>
                  <a:pt x="12517" y="11837"/>
                  <a:pt x="12477" y="11757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4320" y="5081760"/>
            <a:ext cx="446400" cy="357120"/>
          </a:xfrm>
          <a:custGeom>
            <a:avLst/>
            <a:gdLst/>
            <a:ahLst/>
            <a:rect l="l" t="t" r="r" b="b"/>
            <a:pathLst>
              <a:path w="1241" h="993">
                <a:moveTo>
                  <a:pt x="8508" y="14709"/>
                </a:moveTo>
                <a:cubicBezTo>
                  <a:pt x="8452" y="14630"/>
                  <a:pt x="8402" y="14487"/>
                  <a:pt x="8260" y="14560"/>
                </a:cubicBezTo>
                <a:cubicBezTo>
                  <a:pt x="8000" y="14693"/>
                  <a:pt x="7981" y="14897"/>
                  <a:pt x="8111" y="15106"/>
                </a:cubicBezTo>
                <a:cubicBezTo>
                  <a:pt x="8409" y="14994"/>
                  <a:pt x="8504" y="14827"/>
                  <a:pt x="8508" y="14486"/>
                </a:cubicBezTo>
                <a:cubicBezTo>
                  <a:pt x="8509" y="14364"/>
                  <a:pt x="8486" y="14220"/>
                  <a:pt x="8434" y="14114"/>
                </a:cubicBezTo>
                <a:cubicBezTo>
                  <a:pt x="8469" y="14360"/>
                  <a:pt x="8515" y="14612"/>
                  <a:pt x="8558" y="14858"/>
                </a:cubicBezTo>
                <a:cubicBezTo>
                  <a:pt x="8571" y="14932"/>
                  <a:pt x="8563" y="14967"/>
                  <a:pt x="8607" y="14982"/>
                </a:cubicBezTo>
              </a:path>
              <a:path w="1241" h="993">
                <a:moveTo>
                  <a:pt x="8880" y="14511"/>
                </a:moveTo>
                <a:cubicBezTo>
                  <a:pt x="8926" y="14508"/>
                  <a:pt x="9255" y="14466"/>
                  <a:pt x="9252" y="14486"/>
                </a:cubicBezTo>
                <a:cubicBezTo>
                  <a:pt x="9236" y="14511"/>
                  <a:pt x="9219" y="14535"/>
                  <a:pt x="9203" y="14560"/>
                </a:cubicBezTo>
              </a:path>
              <a:path w="1241" h="993">
                <a:moveTo>
                  <a:pt x="8880" y="14684"/>
                </a:moveTo>
                <a:cubicBezTo>
                  <a:pt x="9005" y="14677"/>
                  <a:pt x="9126" y="14660"/>
                  <a:pt x="9252" y="14660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54280" y="5045040"/>
            <a:ext cx="847800" cy="384120"/>
          </a:xfrm>
          <a:custGeom>
            <a:avLst/>
            <a:gdLst/>
            <a:ahLst/>
            <a:rect l="l" t="t" r="r" b="b"/>
            <a:pathLst>
              <a:path w="2358" h="1067">
                <a:moveTo>
                  <a:pt x="10244" y="14213"/>
                </a:moveTo>
                <a:cubicBezTo>
                  <a:pt x="10145" y="14213"/>
                  <a:pt x="10046" y="14213"/>
                  <a:pt x="9947" y="14213"/>
                </a:cubicBezTo>
                <a:cubicBezTo>
                  <a:pt x="9947" y="14314"/>
                  <a:pt x="9924" y="14407"/>
                  <a:pt x="9922" y="14511"/>
                </a:cubicBezTo>
                <a:cubicBezTo>
                  <a:pt x="9922" y="14544"/>
                  <a:pt x="9922" y="14577"/>
                  <a:pt x="9922" y="14610"/>
                </a:cubicBezTo>
                <a:cubicBezTo>
                  <a:pt x="10039" y="14610"/>
                  <a:pt x="10062" y="14475"/>
                  <a:pt x="10195" y="14461"/>
                </a:cubicBezTo>
                <a:cubicBezTo>
                  <a:pt x="10493" y="14431"/>
                  <a:pt x="10498" y="14783"/>
                  <a:pt x="10319" y="14932"/>
                </a:cubicBezTo>
                <a:cubicBezTo>
                  <a:pt x="10281" y="14964"/>
                  <a:pt x="9903" y="15123"/>
                  <a:pt x="9872" y="14982"/>
                </a:cubicBezTo>
                <a:cubicBezTo>
                  <a:pt x="9880" y="14974"/>
                  <a:pt x="9889" y="14965"/>
                  <a:pt x="9897" y="14957"/>
                </a:cubicBezTo>
              </a:path>
              <a:path w="2358" h="1067">
                <a:moveTo>
                  <a:pt x="10740" y="14263"/>
                </a:moveTo>
                <a:cubicBezTo>
                  <a:pt x="10727" y="14336"/>
                  <a:pt x="10620" y="14540"/>
                  <a:pt x="10666" y="14610"/>
                </a:cubicBezTo>
                <a:cubicBezTo>
                  <a:pt x="10716" y="14686"/>
                  <a:pt x="10945" y="14696"/>
                  <a:pt x="10988" y="14610"/>
                </a:cubicBezTo>
                <a:cubicBezTo>
                  <a:pt x="10996" y="14577"/>
                  <a:pt x="11005" y="14544"/>
                  <a:pt x="11013" y="14511"/>
                </a:cubicBezTo>
              </a:path>
              <a:path w="2358" h="1067">
                <a:moveTo>
                  <a:pt x="10790" y="14015"/>
                </a:moveTo>
                <a:cubicBezTo>
                  <a:pt x="10851" y="14285"/>
                  <a:pt x="10848" y="14534"/>
                  <a:pt x="10840" y="14808"/>
                </a:cubicBezTo>
                <a:cubicBezTo>
                  <a:pt x="10837" y="14892"/>
                  <a:pt x="10813" y="14939"/>
                  <a:pt x="10864" y="14957"/>
                </a:cubicBezTo>
              </a:path>
              <a:path w="2358" h="1067">
                <a:moveTo>
                  <a:pt x="11286" y="14610"/>
                </a:moveTo>
                <a:cubicBezTo>
                  <a:pt x="11319" y="14735"/>
                  <a:pt x="11347" y="14830"/>
                  <a:pt x="11361" y="14957"/>
                </a:cubicBezTo>
                <a:cubicBezTo>
                  <a:pt x="11361" y="14785"/>
                  <a:pt x="11390" y="14667"/>
                  <a:pt x="11509" y="14536"/>
                </a:cubicBezTo>
                <a:cubicBezTo>
                  <a:pt x="11699" y="14326"/>
                  <a:pt x="11729" y="14705"/>
                  <a:pt x="11733" y="14808"/>
                </a:cubicBezTo>
                <a:cubicBezTo>
                  <a:pt x="11733" y="14849"/>
                  <a:pt x="11733" y="14891"/>
                  <a:pt x="11733" y="14932"/>
                </a:cubicBezTo>
                <a:cubicBezTo>
                  <a:pt x="11710" y="14955"/>
                  <a:pt x="11702" y="14966"/>
                  <a:pt x="11708" y="14932"/>
                </a:cubicBezTo>
                <a:cubicBezTo>
                  <a:pt x="11772" y="14763"/>
                  <a:pt x="11816" y="14555"/>
                  <a:pt x="12005" y="14486"/>
                </a:cubicBezTo>
                <a:cubicBezTo>
                  <a:pt x="12038" y="14486"/>
                  <a:pt x="12072" y="14486"/>
                  <a:pt x="12105" y="14486"/>
                </a:cubicBezTo>
                <a:cubicBezTo>
                  <a:pt x="12223" y="14691"/>
                  <a:pt x="12227" y="14801"/>
                  <a:pt x="12204" y="15032"/>
                </a:cubicBezTo>
                <a:cubicBezTo>
                  <a:pt x="12204" y="15048"/>
                  <a:pt x="12204" y="15065"/>
                  <a:pt x="12204" y="15081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99240" y="1677960"/>
            <a:ext cx="874800" cy="277920"/>
          </a:xfrm>
          <a:custGeom>
            <a:avLst/>
            <a:gdLst/>
            <a:ahLst/>
            <a:rect l="l" t="t" r="r" b="b"/>
            <a:pathLst>
              <a:path w="2432" h="770">
                <a:moveTo>
                  <a:pt x="21109" y="4936"/>
                </a:moveTo>
                <a:cubicBezTo>
                  <a:pt x="21109" y="4826"/>
                  <a:pt x="21138" y="5101"/>
                  <a:pt x="21158" y="5209"/>
                </a:cubicBezTo>
                <a:cubicBezTo>
                  <a:pt x="21176" y="5300"/>
                  <a:pt x="21185" y="5307"/>
                  <a:pt x="21183" y="5358"/>
                </a:cubicBezTo>
                <a:cubicBezTo>
                  <a:pt x="21132" y="5153"/>
                  <a:pt x="21116" y="5040"/>
                  <a:pt x="21233" y="4862"/>
                </a:cubicBezTo>
                <a:cubicBezTo>
                  <a:pt x="21278" y="4794"/>
                  <a:pt x="21490" y="4624"/>
                  <a:pt x="21580" y="4663"/>
                </a:cubicBezTo>
                <a:cubicBezTo>
                  <a:pt x="21580" y="4671"/>
                  <a:pt x="21580" y="4680"/>
                  <a:pt x="21580" y="4688"/>
                </a:cubicBezTo>
              </a:path>
              <a:path w="2432" h="770">
                <a:moveTo>
                  <a:pt x="21729" y="5035"/>
                </a:moveTo>
                <a:cubicBezTo>
                  <a:pt x="21870" y="5007"/>
                  <a:pt x="22007" y="4961"/>
                  <a:pt x="22151" y="4961"/>
                </a:cubicBezTo>
              </a:path>
              <a:path w="2432" h="770">
                <a:moveTo>
                  <a:pt x="21878" y="5308"/>
                </a:moveTo>
                <a:cubicBezTo>
                  <a:pt x="21777" y="5308"/>
                  <a:pt x="22025" y="5267"/>
                  <a:pt x="22126" y="5259"/>
                </a:cubicBezTo>
                <a:cubicBezTo>
                  <a:pt x="22176" y="5259"/>
                  <a:pt x="22225" y="5259"/>
                  <a:pt x="22275" y="5259"/>
                </a:cubicBezTo>
              </a:path>
              <a:path w="2432" h="770">
                <a:moveTo>
                  <a:pt x="22622" y="4738"/>
                </a:moveTo>
                <a:cubicBezTo>
                  <a:pt x="22646" y="4969"/>
                  <a:pt x="22691" y="5202"/>
                  <a:pt x="22647" y="5432"/>
                </a:cubicBezTo>
                <a:cubicBezTo>
                  <a:pt x="22647" y="5416"/>
                  <a:pt x="22647" y="5399"/>
                  <a:pt x="22647" y="5383"/>
                </a:cubicBezTo>
              </a:path>
              <a:path w="2432" h="770">
                <a:moveTo>
                  <a:pt x="22969" y="4713"/>
                </a:moveTo>
                <a:cubicBezTo>
                  <a:pt x="23222" y="4794"/>
                  <a:pt x="23481" y="4935"/>
                  <a:pt x="23316" y="5259"/>
                </a:cubicBezTo>
                <a:cubicBezTo>
                  <a:pt x="23255" y="5378"/>
                  <a:pt x="23140" y="5420"/>
                  <a:pt x="23044" y="5407"/>
                </a:cubicBezTo>
                <a:cubicBezTo>
                  <a:pt x="23044" y="5227"/>
                  <a:pt x="23132" y="5097"/>
                  <a:pt x="23341" y="5209"/>
                </a:cubicBezTo>
                <a:cubicBezTo>
                  <a:pt x="23405" y="5243"/>
                  <a:pt x="23489" y="5366"/>
                  <a:pt x="23540" y="5383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04120" y="2813040"/>
            <a:ext cx="349200" cy="204840"/>
          </a:xfrm>
          <a:custGeom>
            <a:avLst/>
            <a:gdLst/>
            <a:ahLst/>
            <a:rect l="l" t="t" r="r" b="b"/>
            <a:pathLst>
              <a:path w="969" h="572">
                <a:moveTo>
                  <a:pt x="23068" y="8334"/>
                </a:moveTo>
                <a:cubicBezTo>
                  <a:pt x="23091" y="8357"/>
                  <a:pt x="23099" y="8361"/>
                  <a:pt x="23093" y="8384"/>
                </a:cubicBezTo>
              </a:path>
              <a:path w="969" h="572">
                <a:moveTo>
                  <a:pt x="24011" y="7813"/>
                </a:moveTo>
                <a:cubicBezTo>
                  <a:pt x="24019" y="7813"/>
                  <a:pt x="24028" y="7813"/>
                  <a:pt x="24036" y="7813"/>
                </a:cubicBezTo>
              </a:path>
              <a:path w="969" h="572">
                <a:moveTo>
                  <a:pt x="24036" y="7813"/>
                </a:moveTo>
                <a:lnTo>
                  <a:pt x="24036" y="7813"/>
                </a:ln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35880" y="2786040"/>
            <a:ext cx="1332000" cy="277920"/>
          </a:xfrm>
          <a:custGeom>
            <a:avLst/>
            <a:gdLst/>
            <a:ahLst/>
            <a:rect l="l" t="t" r="r" b="b"/>
            <a:pathLst>
              <a:path w="3697" h="770">
                <a:moveTo>
                  <a:pt x="20935" y="7938"/>
                </a:moveTo>
                <a:cubicBezTo>
                  <a:pt x="20960" y="8112"/>
                  <a:pt x="20978" y="8282"/>
                  <a:pt x="20985" y="8458"/>
                </a:cubicBezTo>
                <a:cubicBezTo>
                  <a:pt x="20974" y="8289"/>
                  <a:pt x="20921" y="8040"/>
                  <a:pt x="21084" y="7913"/>
                </a:cubicBezTo>
                <a:cubicBezTo>
                  <a:pt x="21155" y="7858"/>
                  <a:pt x="21388" y="7822"/>
                  <a:pt x="21431" y="7888"/>
                </a:cubicBezTo>
              </a:path>
              <a:path w="3697" h="770">
                <a:moveTo>
                  <a:pt x="21779" y="8062"/>
                </a:moveTo>
                <a:cubicBezTo>
                  <a:pt x="21817" y="8059"/>
                  <a:pt x="22175" y="8012"/>
                  <a:pt x="22175" y="8037"/>
                </a:cubicBezTo>
                <a:cubicBezTo>
                  <a:pt x="22159" y="8062"/>
                  <a:pt x="22142" y="8086"/>
                  <a:pt x="22126" y="8111"/>
                </a:cubicBezTo>
              </a:path>
              <a:path w="3697" h="770">
                <a:moveTo>
                  <a:pt x="21679" y="8260"/>
                </a:moveTo>
                <a:cubicBezTo>
                  <a:pt x="21821" y="8254"/>
                  <a:pt x="21959" y="8235"/>
                  <a:pt x="22101" y="8235"/>
                </a:cubicBezTo>
              </a:path>
              <a:path w="3697" h="770">
                <a:moveTo>
                  <a:pt x="22572" y="7863"/>
                </a:moveTo>
                <a:cubicBezTo>
                  <a:pt x="22596" y="7791"/>
                  <a:pt x="22597" y="7941"/>
                  <a:pt x="22572" y="8012"/>
                </a:cubicBezTo>
                <a:cubicBezTo>
                  <a:pt x="22556" y="8045"/>
                  <a:pt x="22539" y="8078"/>
                  <a:pt x="22523" y="8111"/>
                </a:cubicBezTo>
                <a:cubicBezTo>
                  <a:pt x="22637" y="8177"/>
                  <a:pt x="22792" y="8190"/>
                  <a:pt x="22920" y="8136"/>
                </a:cubicBezTo>
                <a:cubicBezTo>
                  <a:pt x="22920" y="8128"/>
                  <a:pt x="22920" y="8119"/>
                  <a:pt x="22920" y="8111"/>
                </a:cubicBezTo>
              </a:path>
              <a:path w="3697" h="770">
                <a:moveTo>
                  <a:pt x="22870" y="7739"/>
                </a:moveTo>
                <a:cubicBezTo>
                  <a:pt x="22870" y="7912"/>
                  <a:pt x="22843" y="8089"/>
                  <a:pt x="22820" y="8260"/>
                </a:cubicBezTo>
                <a:cubicBezTo>
                  <a:pt x="22807" y="8354"/>
                  <a:pt x="22796" y="8418"/>
                  <a:pt x="22796" y="8508"/>
                </a:cubicBezTo>
              </a:path>
              <a:path w="3697" h="770">
                <a:moveTo>
                  <a:pt x="23564" y="7739"/>
                </a:moveTo>
                <a:cubicBezTo>
                  <a:pt x="23512" y="7747"/>
                  <a:pt x="23343" y="7745"/>
                  <a:pt x="23316" y="7789"/>
                </a:cubicBezTo>
                <a:cubicBezTo>
                  <a:pt x="23269" y="7867"/>
                  <a:pt x="23188" y="8039"/>
                  <a:pt x="23217" y="8111"/>
                </a:cubicBezTo>
                <a:cubicBezTo>
                  <a:pt x="23357" y="8037"/>
                  <a:pt x="23507" y="7974"/>
                  <a:pt x="23639" y="8111"/>
                </a:cubicBezTo>
                <a:cubicBezTo>
                  <a:pt x="23805" y="8283"/>
                  <a:pt x="23500" y="8431"/>
                  <a:pt x="23366" y="8434"/>
                </a:cubicBezTo>
                <a:cubicBezTo>
                  <a:pt x="23258" y="8412"/>
                  <a:pt x="23221" y="8419"/>
                  <a:pt x="23217" y="8334"/>
                </a:cubicBezTo>
              </a:path>
              <a:path w="3697" h="770">
                <a:moveTo>
                  <a:pt x="23986" y="8111"/>
                </a:moveTo>
                <a:cubicBezTo>
                  <a:pt x="23993" y="8157"/>
                  <a:pt x="24011" y="8555"/>
                  <a:pt x="24011" y="8359"/>
                </a:cubicBezTo>
              </a:path>
              <a:path w="3697" h="770">
                <a:moveTo>
                  <a:pt x="24160" y="8334"/>
                </a:moveTo>
                <a:cubicBezTo>
                  <a:pt x="24160" y="8376"/>
                  <a:pt x="24160" y="8384"/>
                  <a:pt x="24160" y="8409"/>
                </a:cubicBezTo>
                <a:cubicBezTo>
                  <a:pt x="24217" y="8315"/>
                  <a:pt x="24241" y="8190"/>
                  <a:pt x="24309" y="8086"/>
                </a:cubicBezTo>
                <a:cubicBezTo>
                  <a:pt x="24447" y="7874"/>
                  <a:pt x="24583" y="7996"/>
                  <a:pt x="24631" y="8210"/>
                </a:cubicBezTo>
                <a:cubicBezTo>
                  <a:pt x="24631" y="8336"/>
                  <a:pt x="24638" y="8363"/>
                  <a:pt x="24606" y="8434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82040" y="3902040"/>
            <a:ext cx="27000" cy="9720"/>
          </a:xfrm>
          <a:custGeom>
            <a:avLst/>
            <a:gdLst/>
            <a:ahLst/>
            <a:rect l="l" t="t" r="r" b="b"/>
            <a:pathLst>
              <a:path w="76" h="25">
                <a:moveTo>
                  <a:pt x="23837" y="10840"/>
                </a:moveTo>
                <a:cubicBezTo>
                  <a:pt x="23862" y="10848"/>
                  <a:pt x="23887" y="10856"/>
                  <a:pt x="23912" y="10864"/>
                </a:cubicBezTo>
              </a:path>
              <a:path w="76" h="25">
                <a:moveTo>
                  <a:pt x="23912" y="10864"/>
                </a:moveTo>
                <a:lnTo>
                  <a:pt x="23912" y="10864"/>
                </a:ln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6040" y="3973680"/>
            <a:ext cx="455760" cy="214200"/>
          </a:xfrm>
          <a:custGeom>
            <a:avLst/>
            <a:gdLst/>
            <a:ahLst/>
            <a:rect l="l" t="t" r="r" b="b"/>
            <a:pathLst>
              <a:path w="1266" h="596">
                <a:moveTo>
                  <a:pt x="20737" y="11162"/>
                </a:moveTo>
                <a:cubicBezTo>
                  <a:pt x="20814" y="11316"/>
                  <a:pt x="20886" y="11460"/>
                  <a:pt x="20910" y="11633"/>
                </a:cubicBezTo>
                <a:cubicBezTo>
                  <a:pt x="20876" y="11458"/>
                  <a:pt x="20845" y="11239"/>
                  <a:pt x="21010" y="11112"/>
                </a:cubicBezTo>
                <a:cubicBezTo>
                  <a:pt x="21051" y="11080"/>
                  <a:pt x="21301" y="10969"/>
                  <a:pt x="21332" y="11063"/>
                </a:cubicBezTo>
              </a:path>
              <a:path w="1266" h="596">
                <a:moveTo>
                  <a:pt x="21630" y="11212"/>
                </a:moveTo>
                <a:cubicBezTo>
                  <a:pt x="21746" y="11199"/>
                  <a:pt x="21861" y="11173"/>
                  <a:pt x="21977" y="11162"/>
                </a:cubicBezTo>
              </a:path>
              <a:path w="1266" h="596">
                <a:moveTo>
                  <a:pt x="21630" y="11385"/>
                </a:moveTo>
                <a:cubicBezTo>
                  <a:pt x="21757" y="11370"/>
                  <a:pt x="21874" y="11361"/>
                  <a:pt x="22002" y="11361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16920" y="3875040"/>
            <a:ext cx="241200" cy="304920"/>
          </a:xfrm>
          <a:custGeom>
            <a:avLst/>
            <a:gdLst/>
            <a:ahLst/>
            <a:rect l="l" t="t" r="r" b="b"/>
            <a:pathLst>
              <a:path w="671" h="845">
                <a:moveTo>
                  <a:pt x="22547" y="10889"/>
                </a:moveTo>
                <a:cubicBezTo>
                  <a:pt x="22567" y="11106"/>
                  <a:pt x="22613" y="11314"/>
                  <a:pt x="22622" y="11534"/>
                </a:cubicBezTo>
                <a:cubicBezTo>
                  <a:pt x="22622" y="11592"/>
                  <a:pt x="22622" y="11634"/>
                  <a:pt x="22622" y="11584"/>
                </a:cubicBezTo>
              </a:path>
              <a:path w="671" h="845">
                <a:moveTo>
                  <a:pt x="23192" y="10765"/>
                </a:moveTo>
                <a:cubicBezTo>
                  <a:pt x="23061" y="10765"/>
                  <a:pt x="23014" y="10769"/>
                  <a:pt x="22944" y="10840"/>
                </a:cubicBezTo>
                <a:cubicBezTo>
                  <a:pt x="22917" y="11078"/>
                  <a:pt x="23155" y="11128"/>
                  <a:pt x="23192" y="11385"/>
                </a:cubicBezTo>
                <a:cubicBezTo>
                  <a:pt x="23171" y="11494"/>
                  <a:pt x="23178" y="11530"/>
                  <a:pt x="23093" y="11534"/>
                </a:cubicBezTo>
                <a:cubicBezTo>
                  <a:pt x="23001" y="11272"/>
                  <a:pt x="23151" y="11161"/>
                  <a:pt x="23217" y="10889"/>
                </a:cubicBezTo>
                <a:cubicBezTo>
                  <a:pt x="23217" y="10831"/>
                  <a:pt x="23217" y="10823"/>
                  <a:pt x="23217" y="10790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589960" y="3956040"/>
            <a:ext cx="260280" cy="179280"/>
          </a:xfrm>
          <a:custGeom>
            <a:avLst/>
            <a:gdLst/>
            <a:ahLst/>
            <a:rect l="l" t="t" r="r" b="b"/>
            <a:pathLst>
              <a:path w="720" h="498">
                <a:moveTo>
                  <a:pt x="23862" y="11162"/>
                </a:moveTo>
                <a:cubicBezTo>
                  <a:pt x="23876" y="11212"/>
                  <a:pt x="23971" y="11607"/>
                  <a:pt x="23887" y="11410"/>
                </a:cubicBezTo>
              </a:path>
              <a:path w="720" h="498">
                <a:moveTo>
                  <a:pt x="24061" y="11410"/>
                </a:moveTo>
                <a:cubicBezTo>
                  <a:pt x="24061" y="11436"/>
                  <a:pt x="24102" y="11197"/>
                  <a:pt x="24135" y="11137"/>
                </a:cubicBezTo>
                <a:cubicBezTo>
                  <a:pt x="24225" y="10973"/>
                  <a:pt x="24359" y="10928"/>
                  <a:pt x="24482" y="11088"/>
                </a:cubicBezTo>
                <a:cubicBezTo>
                  <a:pt x="24599" y="11242"/>
                  <a:pt x="24587" y="11301"/>
                  <a:pt x="24557" y="11460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055000" y="5249880"/>
            <a:ext cx="446040" cy="81000"/>
          </a:xfrm>
          <a:custGeom>
            <a:avLst/>
            <a:gdLst/>
            <a:ahLst/>
            <a:rect l="l" t="t" r="r" b="b"/>
            <a:pathLst>
              <a:path w="1241" h="224">
                <a:moveTo>
                  <a:pt x="22374" y="14610"/>
                </a:moveTo>
                <a:cubicBezTo>
                  <a:pt x="22547" y="14588"/>
                  <a:pt x="22588" y="14580"/>
                  <a:pt x="22696" y="14585"/>
                </a:cubicBezTo>
              </a:path>
              <a:path w="1241" h="224">
                <a:moveTo>
                  <a:pt x="22696" y="14585"/>
                </a:moveTo>
                <a:lnTo>
                  <a:pt x="22696" y="14585"/>
                </a:lnTo>
              </a:path>
              <a:path w="1241" h="224">
                <a:moveTo>
                  <a:pt x="23589" y="14784"/>
                </a:moveTo>
                <a:cubicBezTo>
                  <a:pt x="23597" y="14792"/>
                  <a:pt x="23606" y="14800"/>
                  <a:pt x="23614" y="14808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7880" y="5010120"/>
            <a:ext cx="1374840" cy="347760"/>
          </a:xfrm>
          <a:custGeom>
            <a:avLst/>
            <a:gdLst/>
            <a:ahLst/>
            <a:rect l="l" t="t" r="r" b="b"/>
            <a:pathLst>
              <a:path w="3821" h="969">
                <a:moveTo>
                  <a:pt x="21382" y="14486"/>
                </a:moveTo>
                <a:cubicBezTo>
                  <a:pt x="21411" y="14478"/>
                  <a:pt x="21427" y="14468"/>
                  <a:pt x="21456" y="14461"/>
                </a:cubicBezTo>
                <a:cubicBezTo>
                  <a:pt x="21456" y="14594"/>
                  <a:pt x="21472" y="14705"/>
                  <a:pt x="21506" y="14833"/>
                </a:cubicBezTo>
                <a:cubicBezTo>
                  <a:pt x="21469" y="14668"/>
                  <a:pt x="21377" y="14503"/>
                  <a:pt x="21481" y="14337"/>
                </a:cubicBezTo>
                <a:cubicBezTo>
                  <a:pt x="21577" y="14184"/>
                  <a:pt x="21833" y="14190"/>
                  <a:pt x="21977" y="14238"/>
                </a:cubicBezTo>
                <a:cubicBezTo>
                  <a:pt x="21985" y="14246"/>
                  <a:pt x="21994" y="14255"/>
                  <a:pt x="22002" y="14263"/>
                </a:cubicBezTo>
              </a:path>
              <a:path w="3821" h="969">
                <a:moveTo>
                  <a:pt x="22349" y="14362"/>
                </a:moveTo>
                <a:cubicBezTo>
                  <a:pt x="22415" y="14352"/>
                  <a:pt x="22711" y="14256"/>
                  <a:pt x="22746" y="14312"/>
                </a:cubicBezTo>
                <a:cubicBezTo>
                  <a:pt x="22729" y="14337"/>
                  <a:pt x="22713" y="14362"/>
                  <a:pt x="22696" y="14387"/>
                </a:cubicBezTo>
              </a:path>
              <a:path w="3821" h="969">
                <a:moveTo>
                  <a:pt x="23068" y="14139"/>
                </a:moveTo>
                <a:cubicBezTo>
                  <a:pt x="23068" y="14238"/>
                  <a:pt x="23068" y="14254"/>
                  <a:pt x="23068" y="14312"/>
                </a:cubicBezTo>
                <a:cubicBezTo>
                  <a:pt x="23085" y="14181"/>
                  <a:pt x="23070" y="14084"/>
                  <a:pt x="23217" y="14064"/>
                </a:cubicBezTo>
                <a:cubicBezTo>
                  <a:pt x="23337" y="14047"/>
                  <a:pt x="23403" y="14059"/>
                  <a:pt x="23515" y="14015"/>
                </a:cubicBezTo>
                <a:cubicBezTo>
                  <a:pt x="23515" y="14217"/>
                  <a:pt x="23443" y="14417"/>
                  <a:pt x="23391" y="14610"/>
                </a:cubicBezTo>
                <a:cubicBezTo>
                  <a:pt x="23347" y="14761"/>
                  <a:pt x="23341" y="14798"/>
                  <a:pt x="23292" y="14883"/>
                </a:cubicBezTo>
              </a:path>
              <a:path w="3821" h="969">
                <a:moveTo>
                  <a:pt x="24061" y="13915"/>
                </a:moveTo>
                <a:cubicBezTo>
                  <a:pt x="23997" y="13915"/>
                  <a:pt x="23957" y="13898"/>
                  <a:pt x="23937" y="13940"/>
                </a:cubicBezTo>
                <a:cubicBezTo>
                  <a:pt x="23897" y="14023"/>
                  <a:pt x="23854" y="14105"/>
                  <a:pt x="23812" y="14188"/>
                </a:cubicBezTo>
                <a:cubicBezTo>
                  <a:pt x="23863" y="14188"/>
                  <a:pt x="23985" y="14159"/>
                  <a:pt x="24011" y="14163"/>
                </a:cubicBezTo>
                <a:cubicBezTo>
                  <a:pt x="24217" y="14198"/>
                  <a:pt x="24230" y="14399"/>
                  <a:pt x="24110" y="14536"/>
                </a:cubicBezTo>
                <a:cubicBezTo>
                  <a:pt x="23983" y="14681"/>
                  <a:pt x="23858" y="14697"/>
                  <a:pt x="23763" y="14560"/>
                </a:cubicBezTo>
              </a:path>
              <a:path w="3821" h="969">
                <a:moveTo>
                  <a:pt x="24408" y="14288"/>
                </a:moveTo>
                <a:cubicBezTo>
                  <a:pt x="24433" y="14412"/>
                  <a:pt x="24441" y="14453"/>
                  <a:pt x="24408" y="14536"/>
                </a:cubicBezTo>
                <a:cubicBezTo>
                  <a:pt x="24382" y="14665"/>
                  <a:pt x="24410" y="14358"/>
                  <a:pt x="24457" y="14288"/>
                </a:cubicBezTo>
                <a:cubicBezTo>
                  <a:pt x="24589" y="14090"/>
                  <a:pt x="24682" y="14304"/>
                  <a:pt x="24705" y="14436"/>
                </a:cubicBezTo>
                <a:cubicBezTo>
                  <a:pt x="24705" y="14461"/>
                  <a:pt x="24705" y="14486"/>
                  <a:pt x="24705" y="14511"/>
                </a:cubicBezTo>
                <a:cubicBezTo>
                  <a:pt x="24726" y="14361"/>
                  <a:pt x="24755" y="14215"/>
                  <a:pt x="24929" y="14188"/>
                </a:cubicBezTo>
                <a:cubicBezTo>
                  <a:pt x="25188" y="14148"/>
                  <a:pt x="25228" y="14406"/>
                  <a:pt x="25202" y="14610"/>
                </a:cubicBezTo>
                <a:cubicBezTo>
                  <a:pt x="25182" y="14650"/>
                  <a:pt x="25173" y="14657"/>
                  <a:pt x="25177" y="14684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56:47Z</dcterms:created>
  <dc:creator>deanne elizabeth mcgrath</dc:creator>
  <dc:description/>
  <dc:language>en-US</dc:language>
  <cp:lastModifiedBy>demcgra</cp:lastModifiedBy>
  <dcterms:modified xsi:type="dcterms:W3CDTF">2012-02-03T20:34:52Z</dcterms:modified>
  <cp:revision>5</cp:revision>
  <dc:subject/>
  <dc:title>Warm-up:  MSA Practice Day 5</dc:title>
</cp:coreProperties>
</file>